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16.wmf" ContentType="image/x-wmf"/>
  <Override PartName="/ppt/media/image45.jpeg" ContentType="image/jpeg"/>
  <Override PartName="/ppt/media/image14.jpeg" ContentType="image/jpeg"/>
  <Override PartName="/ppt/media/image54.png" ContentType="image/png"/>
  <Override PartName="/ppt/media/image1.wmf" ContentType="image/x-wmf"/>
  <Override PartName="/ppt/media/image25.png" ContentType="image/png"/>
  <Override PartName="/ppt/media/image42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9.jpeg" ContentType="image/jpeg"/>
  <Override PartName="/ppt/media/image36.jpeg" ContentType="image/jpeg"/>
  <Override PartName="/ppt/media/image33.jpeg" ContentType="image/jpeg"/>
  <Override PartName="/ppt/media/image39.jpeg" ContentType="image/jpeg"/>
  <Override PartName="/ppt/media/image44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31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image30.jpeg" ContentType="image/jpeg"/>
  <Override PartName="/ppt/media/image27.jpeg" ContentType="image/jpeg"/>
  <Override PartName="/ppt/media/image52.png" ContentType="image/png"/>
  <Override PartName="/ppt/media/image40.png" ContentType="image/png"/>
  <Override PartName="/ppt/media/image8.wmf" ContentType="image/x-wmf"/>
  <Override PartName="/ppt/media/image38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6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7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8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DEB9-25AA-44E6-B4A5-6008372FB0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C1C5-1F27-48F6-8210-EC279BB85D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CF0F-5578-4B3A-AFD4-B4EE0A9B6D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0F9D-D385-447B-8567-DAE6B45264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D7F4-BCDC-4C6A-AEB8-E9D11D688B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FE33-D45B-41B7-925C-C29D811C0C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1) Market Tre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 system market is expanding globally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09:Approx. 3940M$ </a:t>
            </a:r>
            <a:r>
              <a:rPr b="0" lang="en-US" sz="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13:8,050M$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y region, growth is high in America, Asia (Japan, China, etc.), and Western Europe, and high future growth is expected for the Asia marke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 the outdoor category, such as mass transit, retail, and roadside, in the countries including Asia, a degree of penetration has already been obtained mainly by outdoor media handling companies. The key to further penetration in the main categories in the future is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increased us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in-house, such as by educational, medical, and financial institutions, and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by small-scale customer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Together, this will diversify application to such areas as sales promotions, information provision, branding, and space staging as well as outdoor advertising, which has supported the market to dat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erica and Asia lead in testing new ideas by linking DS with mobile, the Internet, and broadcas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2) Enterprise Tre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ull-fledged global expansion by DS system enterprises is limited to a few companies, such as Scala. The top company group market share is low, and the trend is for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many companies with none dominating to share each market and country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However, promising companies that are crossing national borders between the UK and USA and between Asian countries are already emerg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 the future,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SaaS type service is expected to expan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SaaS market share (sales) in 2013 is forecast to be about 25%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ttention is being focused on (1) Interactive (2-way) using DS and mobile, (2) Cross-media by linking DS, mobile, and the Internet, and (3) effective measurement and targeting using face recognition and behavior analysis. Expansion of services using a common system infrastructure, such as DS and broadcas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 Government Policy and Standardization Tre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nly Japan is clearly proceeding with government policy regarding the penetration and standardization of DS. However, China and America, among others, recognize DS as an important sector broadband expansion strateg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e DS forum associations have recently changed their names (DSA: Digital Signage Association </a:t>
            </a:r>
            <a:r>
              <a:rPr b="0" lang="en-US" sz="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Digital Screenmedia Association), OVAB (Out-of-home Video Advertising Bureau) </a:t>
            </a:r>
            <a:r>
              <a:rPr b="0" lang="en-US" sz="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DPAA (Digital Place-based Advertising Association), etc., and the DS concept and what is handled continues to chang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ndardization is being formulated by POPAI and DPAA, but both have just begun it. Currently,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the movement to standardiz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connections between existing vendors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is very limit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DE5C-E073-4FF8-B96F-4C94FA8224F1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0AAC-9C77-4DDC-B83A-BCEC73EEB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F948-1327-44C9-9C65-33ABB2F73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54235-FFC2-43D8-B55C-810AFB9F5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028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8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94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028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8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F7DE-F7E9-43A5-AE15-21745F24E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590EF-04BD-4CAB-8D5A-24B530CA73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D5634-876A-40CD-8829-2EF4FAD786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9849A-4627-40C1-BBDE-4E5A55E4CE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F39DA-B67F-4C9C-BD4F-687DA717D2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6BD93-8771-46EB-8ADE-E79651DA4E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06440" y="-360"/>
            <a:ext cx="7694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523EA-6664-4F08-BE10-FAB4F6D8B5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EFBD2-2D91-40D2-B20C-285C53CB2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1CDD-3218-4E87-85C0-66AE27BDC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62ED4-00F5-4408-9375-8ADD269C85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734CF-935C-4FFA-AA3C-58684F9CC7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CAC02-3367-45EC-8291-02B21927CE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FD58C-8994-4B9B-AB1C-EDB2FC25D9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4028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08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94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4028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08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AFDB2-12F1-4D55-875D-89F6040906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3820A-EFC6-43C0-82DB-AE3307A865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29BFA-7568-454E-A32A-609A931E1D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670F5-58DE-4201-806C-268BE2C6E1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66039-749B-4192-A816-7426B033B8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59941-773F-4584-9D7D-CD7AED897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0FB31-186B-4B0A-A116-9DEFE74B44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06440" y="-360"/>
            <a:ext cx="7694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52D7E-E02F-4C03-99D8-5907C9EE9D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D9F2F-8C92-42DA-96F2-8578387EE4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2F8F1-D5D9-4C91-9E46-6318DB2EA4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68F3D-39BE-42F4-A1A4-0F47461740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A9FD4-65DD-41FE-A493-92A2273744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73C53-471B-4C4B-A273-E393E36D12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4028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08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94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4028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08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A7BDF-4731-4932-B019-EE05C5E5C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998E-9600-40CA-A459-1C243B632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1DDD-3536-4475-A139-F3E6092D6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06440" y="-360"/>
            <a:ext cx="7694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FDE7-FCB7-42AF-8A51-A555A9657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C35F-3EEA-436D-96AA-981DD9635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FF75-B4D1-4442-93F6-E43423501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A2714-7675-4CDD-BC20-4A9B9D382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11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11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11"/>
              </a:spcBef>
              <a:buSzPct val="100000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57240">
            <a:solidFill>
              <a:srgbClr val="006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7867800" y="4428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© 2011 NTT Co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71280" y="144360"/>
            <a:ext cx="270000" cy="270000"/>
          </a:xfrm>
          <a:prstGeom prst="rect">
            <a:avLst/>
          </a:prstGeom>
          <a:solidFill>
            <a:srgbClr val="006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6"/>
          <a:stretch/>
        </p:blipFill>
        <p:spPr>
          <a:xfrm>
            <a:off x="108000" y="6453360"/>
            <a:ext cx="863640" cy="3157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38B4-4121-48C5-A6BC-18C1C271A29F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1892880"/>
            <a:ext cx="7948440" cy="1549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56000"/>
          </a:bodyPr>
          <a:p>
            <a:pPr marL="191880" indent="-191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008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5200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5200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5200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6360" y="3429000"/>
            <a:ext cx="9144000" cy="0"/>
          </a:xfrm>
          <a:prstGeom prst="line">
            <a:avLst/>
          </a:prstGeom>
          <a:ln w="57240">
            <a:solidFill>
              <a:srgbClr val="006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863640" cy="315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7867800" y="4428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© 2011 NTT Co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2325-8957-403C-93C5-338B1FA0704E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208080" y="208080"/>
            <a:ext cx="1726920" cy="633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08080" y="6553080"/>
            <a:ext cx="327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Copyright © 2011 NTT Corp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8"/>
          <p:cNvSpPr/>
          <p:nvPr/>
        </p:nvSpPr>
        <p:spPr>
          <a:xfrm>
            <a:off x="3240" y="2708280"/>
            <a:ext cx="9163080" cy="0"/>
          </a:xfrm>
          <a:prstGeom prst="line">
            <a:avLst/>
          </a:prstGeom>
          <a:ln w="76320">
            <a:solidFill>
              <a:srgbClr val="ff1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11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11"/>
              </a:spcBef>
              <a:buSzPct val="100000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11"/>
              </a:spcBef>
              <a:buSzPct val="100000"/>
              <a:buBlip>
                <a:blip r:embed="rId6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729B-CF9A-4379-8C92-4E1BC93A7050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47.jpeg"/><Relationship Id="rId12" Type="http://schemas.openxmlformats.org/officeDocument/2006/relationships/image" Target="../media/image47.jpeg"/><Relationship Id="rId13" Type="http://schemas.openxmlformats.org/officeDocument/2006/relationships/image" Target="../media/image42.jpeg"/><Relationship Id="rId14" Type="http://schemas.openxmlformats.org/officeDocument/2006/relationships/image" Target="../media/image4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47.jpeg"/><Relationship Id="rId12" Type="http://schemas.openxmlformats.org/officeDocument/2006/relationships/image" Target="../media/image47.jpeg"/><Relationship Id="rId13" Type="http://schemas.openxmlformats.org/officeDocument/2006/relationships/image" Target="../media/image42.jpeg"/><Relationship Id="rId14" Type="http://schemas.openxmlformats.org/officeDocument/2006/relationships/image" Target="../media/image4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D2A16BC-0880-4127-8C24-0AE47E9B40F2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d-base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gital sign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TT Corp. Jap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ru Kobayash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sayuki Iha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7958160" y="279360"/>
            <a:ext cx="1000080" cy="1381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659200" y="44280"/>
            <a:ext cx="340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Nov. 2011 W3C/TPAC Plenary Breakout se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6A392A2-F150-4A3C-A082-D844F36BB635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3520" y="764640"/>
            <a:ext cx="8394840" cy="10573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88000"/>
          </a:bodyPr>
          <a:p>
            <a:pPr marL="287640" indent="-287640">
              <a:lnSpc>
                <a:spcPts val="2098"/>
              </a:lnSpc>
              <a:spcBef>
                <a:spcPts val="624"/>
              </a:spcBef>
              <a:buSzPct val="118171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WORD: Digital Signag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Out Door Advertisement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y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>
              <a:lnSpc>
                <a:spcPts val="2098"/>
              </a:lnSpc>
              <a:spcBef>
                <a:spcPts val="624"/>
              </a:spcBef>
              <a:buSzPct val="118171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are moving fr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VCM playba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teractive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角丸四角形 1"/>
          <p:cNvSpPr/>
          <p:nvPr/>
        </p:nvSpPr>
        <p:spPr>
          <a:xfrm>
            <a:off x="353880" y="4243320"/>
            <a:ext cx="2592360" cy="93672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of h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角丸四角形 5"/>
          <p:cNvSpPr/>
          <p:nvPr/>
        </p:nvSpPr>
        <p:spPr>
          <a:xfrm>
            <a:off x="5191200" y="3481560"/>
            <a:ext cx="3313080" cy="69048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M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hopping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角丸四角形 6"/>
          <p:cNvSpPr/>
          <p:nvPr/>
        </p:nvSpPr>
        <p:spPr>
          <a:xfrm>
            <a:off x="5191200" y="5300640"/>
            <a:ext cx="3313080" cy="79236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Vending Machi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aise rev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テキスト ボックス 4"/>
          <p:cNvSpPr/>
          <p:nvPr/>
        </p:nvSpPr>
        <p:spPr>
          <a:xfrm>
            <a:off x="250920" y="3789360"/>
            <a:ext cx="28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 commercial play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テキスト ボックス 10"/>
          <p:cNvSpPr/>
          <p:nvPr/>
        </p:nvSpPr>
        <p:spPr>
          <a:xfrm>
            <a:off x="5091120" y="305928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and Dynamic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直線矢印コネクタ 9"/>
          <p:cNvCxnSpPr>
            <a:stCxn id="230" idx="3"/>
            <a:endCxn id="231" idx="1"/>
          </p:cNvCxnSpPr>
          <p:nvPr/>
        </p:nvCxnSpPr>
        <p:spPr>
          <a:xfrm flipV="1">
            <a:off x="2946240" y="3827160"/>
            <a:ext cx="224568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直線矢印コネクタ 16"/>
          <p:cNvCxnSpPr>
            <a:stCxn id="230" idx="3"/>
            <a:endCxn id="232" idx="1"/>
          </p:cNvCxnSpPr>
          <p:nvPr/>
        </p:nvCxnSpPr>
        <p:spPr>
          <a:xfrm>
            <a:off x="2946240" y="4711680"/>
            <a:ext cx="2245680" cy="98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7" name="テキスト ボックス 1"/>
          <p:cNvSpPr/>
          <p:nvPr/>
        </p:nvSpPr>
        <p:spPr>
          <a:xfrm>
            <a:off x="1087200" y="2448000"/>
            <a:ext cx="88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テキスト ボックス 27"/>
          <p:cNvSpPr/>
          <p:nvPr/>
        </p:nvSpPr>
        <p:spPr>
          <a:xfrm>
            <a:off x="6212520" y="2448000"/>
            <a:ext cx="88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右矢印 20"/>
          <p:cNvSpPr/>
          <p:nvPr/>
        </p:nvSpPr>
        <p:spPr>
          <a:xfrm>
            <a:off x="2224080" y="2567160"/>
            <a:ext cx="3795840" cy="237960"/>
          </a:xfrm>
          <a:prstGeom prst="rightArrow">
            <a:avLst>
              <a:gd name="adj1" fmla="val 50000"/>
              <a:gd name="adj2" fmla="val 50144"/>
            </a:avLst>
          </a:prstGeom>
          <a:solidFill>
            <a:srgbClr val="d2d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直線コネクタ 22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70A0EF4-B25E-446E-9469-A155BE611F89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0" y="6308640"/>
            <a:ext cx="1403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図 18" descr="品川駅中央コンコース②.JPG"/>
          <p:cNvPicPr/>
          <p:nvPr/>
        </p:nvPicPr>
        <p:blipFill>
          <a:blip r:embed="rId1"/>
          <a:stretch/>
        </p:blipFill>
        <p:spPr>
          <a:xfrm>
            <a:off x="4978440" y="1141560"/>
            <a:ext cx="3697200" cy="295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5" name="Picture 19" descr=""/>
          <p:cNvPicPr/>
          <p:nvPr/>
        </p:nvPicPr>
        <p:blipFill>
          <a:blip r:embed="rId2"/>
          <a:stretch/>
        </p:blipFill>
        <p:spPr>
          <a:xfrm>
            <a:off x="682560" y="765000"/>
            <a:ext cx="3854520" cy="43275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0"/>
          <p:cNvSpPr/>
          <p:nvPr/>
        </p:nvSpPr>
        <p:spPr>
          <a:xfrm>
            <a:off x="324000" y="71280"/>
            <a:ext cx="62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tive Vending Machi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7740720" y="0"/>
            <a:ext cx="14032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正方形/長方形 2"/>
          <p:cNvSpPr/>
          <p:nvPr/>
        </p:nvSpPr>
        <p:spPr>
          <a:xfrm>
            <a:off x="838080" y="5419800"/>
            <a:ext cx="7837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-OTF 新ゴ Pro L"/>
              </a:rPr>
              <a:t>Sales have gone up 200% compared to previous vending machi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9" descr=""/>
          <p:cNvPicPr/>
          <p:nvPr/>
        </p:nvPicPr>
        <p:blipFill>
          <a:blip r:embed="rId1"/>
          <a:srcRect l="56591" t="0" r="0" b="0"/>
          <a:stretch/>
        </p:blipFill>
        <p:spPr>
          <a:xfrm>
            <a:off x="0" y="1039680"/>
            <a:ext cx="2141640" cy="5538960"/>
          </a:xfrm>
          <a:prstGeom prst="rect">
            <a:avLst/>
          </a:prstGeom>
          <a:ln w="0">
            <a:noFill/>
          </a:ln>
        </p:spPr>
      </p:pic>
      <p:sp>
        <p:nvSpPr>
          <p:cNvPr id="250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402A50E-A75A-43A5-B20E-250CBADEA9AC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0" y="6308640"/>
            <a:ext cx="1403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324000" y="71280"/>
            <a:ext cx="62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tive Vending Machi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7740720" y="0"/>
            <a:ext cx="14032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050920" y="1268280"/>
            <a:ext cx="6913800" cy="47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Outdoor High-brightness, Water resista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47in LCD touch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Sensors allow us to change content depending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weather,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Built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face recogn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camera will recommend you a drink based on your gender and 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Real Time information of sales and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Demographics of customer is analyzed for future marketing and develo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NFC/RF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 senders send URL’s to mobile phones for products promotions or campa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B92C6EF-542C-48DF-B73E-D24668667CCD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0" y="6308640"/>
            <a:ext cx="1403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258840" y="2982960"/>
            <a:ext cx="8485200" cy="35146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kyo Midtow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ffice, Shopping Mall, Building Compl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39760" y="692280"/>
            <a:ext cx="86407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098"/>
              </a:lnSpc>
              <a:spcAft>
                <a:spcPts val="1800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150scree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deployed throughout the fac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098"/>
              </a:lnSpc>
              <a:spcAft>
                <a:spcPts val="1800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Over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100,000 people/mon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multilingu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 touchscreen to get shop and facility inform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098"/>
              </a:lnSpc>
              <a:spcAft>
                <a:spcPts val="1800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All information resides on a database which allows easy operation of updating, store information and recreational events which are updat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realti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-OTF 新ゴ Pro 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AE70FFA-E6AC-43D1-855B-FC27F9C795BD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0920" y="2209320"/>
            <a:ext cx="7948440" cy="917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sayuki Iha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Digital Signages at Marriott Santa Cl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B51DE0E-A530-4449-88A2-0FCEC9239624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図 7" descr="写真 11-11-01 7 38 23.jpg"/>
          <p:cNvPicPr/>
          <p:nvPr/>
        </p:nvPicPr>
        <p:blipFill>
          <a:blip r:embed="rId1"/>
          <a:stretch/>
        </p:blipFill>
        <p:spPr>
          <a:xfrm>
            <a:off x="406440" y="90000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0" name="図 8" descr="写真 11-11-01 7 38 41.jpg"/>
          <p:cNvPicPr/>
          <p:nvPr/>
        </p:nvPicPr>
        <p:blipFill>
          <a:blip r:embed="rId2"/>
          <a:stretch/>
        </p:blipFill>
        <p:spPr>
          <a:xfrm>
            <a:off x="5796000" y="402912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1" name="図 9" descr="写真 11-11-01 7 38 49.jpg"/>
          <p:cNvPicPr/>
          <p:nvPr/>
        </p:nvPicPr>
        <p:blipFill>
          <a:blip r:embed="rId3"/>
          <a:stretch/>
        </p:blipFill>
        <p:spPr>
          <a:xfrm>
            <a:off x="5219640" y="90000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2" name="図 10" descr="写真 11-11-01 7 39 02.jpg"/>
          <p:cNvPicPr/>
          <p:nvPr/>
        </p:nvPicPr>
        <p:blipFill>
          <a:blip r:embed="rId4"/>
          <a:stretch/>
        </p:blipFill>
        <p:spPr>
          <a:xfrm>
            <a:off x="2951280" y="4238640"/>
            <a:ext cx="304776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3" name="図 11" descr="写真 11-11-01 7 39 24.jpg"/>
          <p:cNvPicPr/>
          <p:nvPr/>
        </p:nvPicPr>
        <p:blipFill>
          <a:blip r:embed="rId5"/>
          <a:stretch/>
        </p:blipFill>
        <p:spPr>
          <a:xfrm>
            <a:off x="5511960" y="2276640"/>
            <a:ext cx="304776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4" name="図 12" descr="写真 11-11-01 7 39 40.jpg"/>
          <p:cNvPicPr/>
          <p:nvPr/>
        </p:nvPicPr>
        <p:blipFill>
          <a:blip r:embed="rId6"/>
          <a:stretch/>
        </p:blipFill>
        <p:spPr>
          <a:xfrm>
            <a:off x="3006720" y="681120"/>
            <a:ext cx="2286000" cy="3047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5" name="図 13" descr="写真 11-11-01 7 39 56.jpg"/>
          <p:cNvPicPr/>
          <p:nvPr/>
        </p:nvPicPr>
        <p:blipFill>
          <a:blip r:embed="rId7"/>
          <a:stretch/>
        </p:blipFill>
        <p:spPr>
          <a:xfrm>
            <a:off x="406440" y="402912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6" name="図 14" descr="写真 11-11-01 7 40 11.jpg"/>
          <p:cNvPicPr/>
          <p:nvPr/>
        </p:nvPicPr>
        <p:blipFill>
          <a:blip r:embed="rId8"/>
          <a:stretch/>
        </p:blipFill>
        <p:spPr>
          <a:xfrm>
            <a:off x="155520" y="258588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7" name="図 15" descr="写真 11-11-01 7 43 41.jpg"/>
          <p:cNvPicPr/>
          <p:nvPr/>
        </p:nvPicPr>
        <p:blipFill>
          <a:blip r:embed="rId9"/>
          <a:stretch/>
        </p:blipFill>
        <p:spPr>
          <a:xfrm>
            <a:off x="2747880" y="242100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grpSp>
        <p:nvGrpSpPr>
          <p:cNvPr id="278" name="グループ化 18"/>
          <p:cNvGrpSpPr/>
          <p:nvPr/>
        </p:nvGrpSpPr>
        <p:grpSpPr>
          <a:xfrm>
            <a:off x="1692360" y="1844640"/>
            <a:ext cx="5148000" cy="3443400"/>
            <a:chOff x="1692360" y="1844640"/>
            <a:chExt cx="5148000" cy="3443400"/>
          </a:xfrm>
        </p:grpSpPr>
        <p:sp>
          <p:nvSpPr>
            <p:cNvPr id="279" name="正方形/長方形 16"/>
            <p:cNvSpPr/>
            <p:nvPr/>
          </p:nvSpPr>
          <p:spPr>
            <a:xfrm>
              <a:off x="2748600" y="2420640"/>
              <a:ext cx="3047400" cy="2285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乗算記号 17"/>
            <p:cNvSpPr/>
            <p:nvPr/>
          </p:nvSpPr>
          <p:spPr>
            <a:xfrm>
              <a:off x="1692360" y="1844640"/>
              <a:ext cx="5148000" cy="3443400"/>
            </a:xfrm>
            <a:custGeom>
              <a:avLst/>
              <a:gdLst/>
              <a:ahLst/>
              <a:rect l="l" t="t" r="r" b="b"/>
              <a:pathLst>
                <a:path w="5149230" h="3443808">
                  <a:moveTo>
                    <a:pt x="1150487" y="956048"/>
                  </a:moveTo>
                  <a:lnTo>
                    <a:pt x="1322946" y="698185"/>
                  </a:lnTo>
                  <a:lnTo>
                    <a:pt x="2574615" y="1535302"/>
                  </a:lnTo>
                  <a:lnTo>
                    <a:pt x="3826284" y="698185"/>
                  </a:lnTo>
                  <a:lnTo>
                    <a:pt x="3998743" y="956048"/>
                  </a:lnTo>
                  <a:lnTo>
                    <a:pt x="2853625" y="1721904"/>
                  </a:lnTo>
                  <a:lnTo>
                    <a:pt x="3998743" y="2487760"/>
                  </a:lnTo>
                  <a:lnTo>
                    <a:pt x="3826284" y="2745623"/>
                  </a:lnTo>
                  <a:lnTo>
                    <a:pt x="2574615" y="1908506"/>
                  </a:lnTo>
                  <a:lnTo>
                    <a:pt x="1322946" y="2745623"/>
                  </a:lnTo>
                  <a:lnTo>
                    <a:pt x="1150487" y="2487760"/>
                  </a:lnTo>
                  <a:lnTo>
                    <a:pt x="2295605" y="1721904"/>
                  </a:lnTo>
                  <a:lnTo>
                    <a:pt x="1150487" y="9560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テキスト ボックス 19"/>
          <p:cNvSpPr/>
          <p:nvPr/>
        </p:nvSpPr>
        <p:spPr>
          <a:xfrm>
            <a:off x="3695040" y="4707000"/>
            <a:ext cx="266184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t dig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角丸四角形 20"/>
          <p:cNvGrpSpPr/>
          <p:nvPr/>
        </p:nvGrpSpPr>
        <p:grpSpPr>
          <a:xfrm>
            <a:off x="530280" y="2206800"/>
            <a:ext cx="8059680" cy="3322440"/>
            <a:chOff x="530280" y="2206800"/>
            <a:chExt cx="8059680" cy="3322440"/>
          </a:xfrm>
        </p:grpSpPr>
        <p:pic>
          <p:nvPicPr>
            <p:cNvPr id="283" name="角丸四角形 20" descr=""/>
            <p:cNvPicPr/>
            <p:nvPr/>
          </p:nvPicPr>
          <p:blipFill>
            <a:blip r:embed="rId10"/>
            <a:stretch/>
          </p:blipFill>
          <p:spPr>
            <a:xfrm>
              <a:off x="530280" y="2206800"/>
              <a:ext cx="8059680" cy="33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39800" y="2389320"/>
              <a:ext cx="763920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r>
                <a:rPr b="0" lang="en-US" sz="7200" spc="-1" strike="noStrike">
                  <a:solidFill>
                    <a:srgbClr val="ffff00"/>
                  </a:solidFill>
                  <a:latin typeface="Arial"/>
                </a:rPr>
                <a:t>What technology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r>
                <a:rPr b="0" lang="en-US" sz="7200" spc="-1" strike="noStrike">
                  <a:solidFill>
                    <a:srgbClr val="ffff00"/>
                  </a:solidFill>
                  <a:latin typeface="Arial"/>
                </a:rPr>
                <a:t>is used there?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ja-JP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フッター プレースホルダ 2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スライド番号プレースホルダ 3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A635BC3-D726-40A6-9810-B263409BC087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テキスト ボックス 4"/>
          <p:cNvSpPr/>
          <p:nvPr/>
        </p:nvSpPr>
        <p:spPr>
          <a:xfrm>
            <a:off x="297360" y="2170080"/>
            <a:ext cx="861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Digital Sign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should be network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ystem architecture of networked Digital Sign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FCF7EB6-171F-4C8F-BD8D-A1CF8219EB05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7031160" y="5495760"/>
            <a:ext cx="1366560" cy="792360"/>
          </a:xfrm>
          <a:prstGeom prst="roundRect">
            <a:avLst>
              <a:gd name="adj" fmla="val 3310"/>
            </a:avLst>
          </a:prstGeom>
          <a:solidFill>
            <a:srgbClr val="ffffff"/>
          </a:solidFill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9"/>
          <p:cNvSpPr/>
          <p:nvPr/>
        </p:nvSpPr>
        <p:spPr>
          <a:xfrm>
            <a:off x="7699320" y="4589640"/>
            <a:ext cx="120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vie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0"/>
          <p:cNvSpPr/>
          <p:nvPr/>
        </p:nvSpPr>
        <p:spPr>
          <a:xfrm>
            <a:off x="7701120" y="3429000"/>
            <a:ext cx="101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rt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2"/>
          <p:cNvSpPr/>
          <p:nvPr/>
        </p:nvSpPr>
        <p:spPr>
          <a:xfrm>
            <a:off x="7719840" y="4005360"/>
            <a:ext cx="10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book 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67"/>
          <p:cNvSpPr/>
          <p:nvPr/>
        </p:nvSpPr>
        <p:spPr>
          <a:xfrm>
            <a:off x="1440000" y="234792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9" descr="j0432517[1]"/>
          <p:cNvPicPr/>
          <p:nvPr/>
        </p:nvPicPr>
        <p:blipFill>
          <a:blip r:embed="rId1"/>
          <a:stretch/>
        </p:blipFill>
        <p:spPr>
          <a:xfrm flipH="1">
            <a:off x="7031160" y="2914560"/>
            <a:ext cx="588960" cy="451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4"/>
          <p:cNvSpPr/>
          <p:nvPr/>
        </p:nvSpPr>
        <p:spPr>
          <a:xfrm>
            <a:off x="7702200" y="297648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266"/>
          <p:cNvGrpSpPr/>
          <p:nvPr/>
        </p:nvGrpSpPr>
        <p:grpSpPr>
          <a:xfrm>
            <a:off x="7054920" y="2367000"/>
            <a:ext cx="523800" cy="339840"/>
            <a:chOff x="7054920" y="2367000"/>
            <a:chExt cx="523800" cy="339840"/>
          </a:xfrm>
        </p:grpSpPr>
        <p:sp>
          <p:nvSpPr>
            <p:cNvPr id="300" name="Freeform 267"/>
            <p:cNvSpPr/>
            <p:nvPr/>
          </p:nvSpPr>
          <p:spPr>
            <a:xfrm>
              <a:off x="7054920" y="2367000"/>
              <a:ext cx="523800" cy="3398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268"/>
            <p:cNvSpPr/>
            <p:nvPr/>
          </p:nvSpPr>
          <p:spPr>
            <a:xfrm>
              <a:off x="7054920" y="2367000"/>
              <a:ext cx="294480" cy="2804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0440"/>
                <a:gd name="textAreaBottom" fmla="*/ 280440 h 28044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269"/>
            <p:cNvSpPr/>
            <p:nvPr/>
          </p:nvSpPr>
          <p:spPr>
            <a:xfrm>
              <a:off x="7054920" y="2377440"/>
              <a:ext cx="300240" cy="2772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270"/>
            <p:cNvSpPr/>
            <p:nvPr/>
          </p:nvSpPr>
          <p:spPr>
            <a:xfrm>
              <a:off x="7054920" y="2377440"/>
              <a:ext cx="307080" cy="28332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271"/>
            <p:cNvSpPr/>
            <p:nvPr/>
          </p:nvSpPr>
          <p:spPr>
            <a:xfrm>
              <a:off x="7054920" y="2377440"/>
              <a:ext cx="313920" cy="28944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272"/>
            <p:cNvSpPr/>
            <p:nvPr/>
          </p:nvSpPr>
          <p:spPr>
            <a:xfrm>
              <a:off x="7054920" y="2378160"/>
              <a:ext cx="320400" cy="2948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273"/>
            <p:cNvSpPr/>
            <p:nvPr/>
          </p:nvSpPr>
          <p:spPr>
            <a:xfrm>
              <a:off x="7054920" y="2378160"/>
              <a:ext cx="327240" cy="30096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274"/>
            <p:cNvSpPr/>
            <p:nvPr/>
          </p:nvSpPr>
          <p:spPr>
            <a:xfrm>
              <a:off x="7054920" y="2378160"/>
              <a:ext cx="334080" cy="3074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275"/>
            <p:cNvSpPr/>
            <p:nvPr/>
          </p:nvSpPr>
          <p:spPr>
            <a:xfrm>
              <a:off x="7054920" y="2379240"/>
              <a:ext cx="340920" cy="31248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276"/>
            <p:cNvSpPr/>
            <p:nvPr/>
          </p:nvSpPr>
          <p:spPr>
            <a:xfrm>
              <a:off x="7054920" y="2379240"/>
              <a:ext cx="346680" cy="318600"/>
            </a:xfrm>
            <a:custGeom>
              <a:avLst/>
              <a:gdLst>
                <a:gd name="textAreaLeft" fmla="*/ 0 w 346680"/>
                <a:gd name="textAreaRight" fmla="*/ 346680 w 34668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277"/>
            <p:cNvSpPr/>
            <p:nvPr/>
          </p:nvSpPr>
          <p:spPr>
            <a:xfrm>
              <a:off x="7054920" y="2379240"/>
              <a:ext cx="361080" cy="32760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278"/>
            <p:cNvSpPr/>
            <p:nvPr/>
          </p:nvSpPr>
          <p:spPr>
            <a:xfrm>
              <a:off x="7059600" y="237996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279"/>
            <p:cNvSpPr/>
            <p:nvPr/>
          </p:nvSpPr>
          <p:spPr>
            <a:xfrm>
              <a:off x="7067160" y="237996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280"/>
            <p:cNvSpPr/>
            <p:nvPr/>
          </p:nvSpPr>
          <p:spPr>
            <a:xfrm>
              <a:off x="7075080" y="2379960"/>
              <a:ext cx="362160" cy="3265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281"/>
            <p:cNvSpPr/>
            <p:nvPr/>
          </p:nvSpPr>
          <p:spPr>
            <a:xfrm>
              <a:off x="7083720" y="2381040"/>
              <a:ext cx="361080" cy="325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282"/>
            <p:cNvSpPr/>
            <p:nvPr/>
          </p:nvSpPr>
          <p:spPr>
            <a:xfrm>
              <a:off x="7091280" y="2381040"/>
              <a:ext cx="360000" cy="325080"/>
            </a:xfrm>
            <a:custGeom>
              <a:avLst/>
              <a:gdLst>
                <a:gd name="textAreaLeft" fmla="*/ 0 w 360000"/>
                <a:gd name="textAreaRight" fmla="*/ 360000 w 3600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283"/>
            <p:cNvSpPr/>
            <p:nvPr/>
          </p:nvSpPr>
          <p:spPr>
            <a:xfrm>
              <a:off x="7098840" y="2381040"/>
              <a:ext cx="360360" cy="325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284"/>
            <p:cNvSpPr/>
            <p:nvPr/>
          </p:nvSpPr>
          <p:spPr>
            <a:xfrm>
              <a:off x="7106760" y="2381040"/>
              <a:ext cx="359280" cy="32400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285"/>
            <p:cNvSpPr/>
            <p:nvPr/>
          </p:nvSpPr>
          <p:spPr>
            <a:xfrm>
              <a:off x="7114320" y="2381760"/>
              <a:ext cx="359280" cy="32328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286"/>
            <p:cNvSpPr/>
            <p:nvPr/>
          </p:nvSpPr>
          <p:spPr>
            <a:xfrm>
              <a:off x="7122240" y="2381760"/>
              <a:ext cx="456480" cy="3232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287"/>
            <p:cNvSpPr/>
            <p:nvPr/>
          </p:nvSpPr>
          <p:spPr>
            <a:xfrm>
              <a:off x="7564320" y="2395080"/>
              <a:ext cx="8280" cy="28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288"/>
            <p:cNvSpPr/>
            <p:nvPr/>
          </p:nvSpPr>
          <p:spPr>
            <a:xfrm>
              <a:off x="7070040" y="2379240"/>
              <a:ext cx="498960" cy="31536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289"/>
            <p:cNvSpPr/>
            <p:nvPr/>
          </p:nvSpPr>
          <p:spPr>
            <a:xfrm>
              <a:off x="7054920" y="2367000"/>
              <a:ext cx="3600" cy="137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290"/>
            <p:cNvSpPr/>
            <p:nvPr/>
          </p:nvSpPr>
          <p:spPr>
            <a:xfrm>
              <a:off x="7074000" y="2382840"/>
              <a:ext cx="492120" cy="3081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08160"/>
                <a:gd name="textAreaBottom" fmla="*/ 308160 h 30816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291"/>
            <p:cNvSpPr/>
            <p:nvPr/>
          </p:nvSpPr>
          <p:spPr>
            <a:xfrm>
              <a:off x="7074000" y="2382840"/>
              <a:ext cx="197280" cy="1861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292"/>
            <p:cNvSpPr/>
            <p:nvPr/>
          </p:nvSpPr>
          <p:spPr>
            <a:xfrm>
              <a:off x="7075080" y="2388960"/>
              <a:ext cx="208080" cy="190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293"/>
            <p:cNvSpPr/>
            <p:nvPr/>
          </p:nvSpPr>
          <p:spPr>
            <a:xfrm>
              <a:off x="7075080" y="2389680"/>
              <a:ext cx="218520" cy="19908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294"/>
            <p:cNvSpPr/>
            <p:nvPr/>
          </p:nvSpPr>
          <p:spPr>
            <a:xfrm>
              <a:off x="7075080" y="2389680"/>
              <a:ext cx="228960" cy="2098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295"/>
            <p:cNvSpPr/>
            <p:nvPr/>
          </p:nvSpPr>
          <p:spPr>
            <a:xfrm>
              <a:off x="7075080" y="2389680"/>
              <a:ext cx="239760" cy="219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296"/>
            <p:cNvSpPr/>
            <p:nvPr/>
          </p:nvSpPr>
          <p:spPr>
            <a:xfrm>
              <a:off x="7075080" y="2390760"/>
              <a:ext cx="250200" cy="2282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297"/>
            <p:cNvSpPr/>
            <p:nvPr/>
          </p:nvSpPr>
          <p:spPr>
            <a:xfrm>
              <a:off x="7075080" y="2390760"/>
              <a:ext cx="261000" cy="23904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298"/>
            <p:cNvSpPr/>
            <p:nvPr/>
          </p:nvSpPr>
          <p:spPr>
            <a:xfrm>
              <a:off x="7075080" y="2390760"/>
              <a:ext cx="271440" cy="2487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99"/>
            <p:cNvSpPr/>
            <p:nvPr/>
          </p:nvSpPr>
          <p:spPr>
            <a:xfrm>
              <a:off x="7075080" y="2391480"/>
              <a:ext cx="282240" cy="2574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300"/>
            <p:cNvSpPr/>
            <p:nvPr/>
          </p:nvSpPr>
          <p:spPr>
            <a:xfrm>
              <a:off x="7075080" y="2391480"/>
              <a:ext cx="292680" cy="26820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301"/>
            <p:cNvSpPr/>
            <p:nvPr/>
          </p:nvSpPr>
          <p:spPr>
            <a:xfrm>
              <a:off x="7075080" y="239256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302"/>
            <p:cNvSpPr/>
            <p:nvPr/>
          </p:nvSpPr>
          <p:spPr>
            <a:xfrm>
              <a:off x="7075080" y="2392560"/>
              <a:ext cx="313920" cy="2869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303"/>
            <p:cNvSpPr/>
            <p:nvPr/>
          </p:nvSpPr>
          <p:spPr>
            <a:xfrm>
              <a:off x="7075080" y="2392560"/>
              <a:ext cx="324360" cy="297360"/>
            </a:xfrm>
            <a:custGeom>
              <a:avLst/>
              <a:gdLst>
                <a:gd name="textAreaLeft" fmla="*/ 0 w 324360"/>
                <a:gd name="textAreaRight" fmla="*/ 324360 w 3243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304"/>
            <p:cNvSpPr/>
            <p:nvPr/>
          </p:nvSpPr>
          <p:spPr>
            <a:xfrm>
              <a:off x="7075080" y="2393280"/>
              <a:ext cx="335160" cy="2973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305"/>
            <p:cNvSpPr/>
            <p:nvPr/>
          </p:nvSpPr>
          <p:spPr>
            <a:xfrm>
              <a:off x="7085520" y="2393280"/>
              <a:ext cx="335160" cy="2966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6640"/>
                <a:gd name="textAreaBottom" fmla="*/ 296640 h 296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306"/>
            <p:cNvSpPr/>
            <p:nvPr/>
          </p:nvSpPr>
          <p:spPr>
            <a:xfrm>
              <a:off x="7097040" y="239436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307"/>
            <p:cNvSpPr/>
            <p:nvPr/>
          </p:nvSpPr>
          <p:spPr>
            <a:xfrm>
              <a:off x="7107840" y="239436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308"/>
            <p:cNvSpPr/>
            <p:nvPr/>
          </p:nvSpPr>
          <p:spPr>
            <a:xfrm>
              <a:off x="7119360" y="2394360"/>
              <a:ext cx="334080" cy="2948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309"/>
            <p:cNvSpPr/>
            <p:nvPr/>
          </p:nvSpPr>
          <p:spPr>
            <a:xfrm>
              <a:off x="7130880" y="239508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310"/>
            <p:cNvSpPr/>
            <p:nvPr/>
          </p:nvSpPr>
          <p:spPr>
            <a:xfrm>
              <a:off x="7142400" y="2395080"/>
              <a:ext cx="332280" cy="2930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311"/>
            <p:cNvSpPr/>
            <p:nvPr/>
          </p:nvSpPr>
          <p:spPr>
            <a:xfrm>
              <a:off x="7153920" y="2395080"/>
              <a:ext cx="331200" cy="2930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312"/>
            <p:cNvSpPr/>
            <p:nvPr/>
          </p:nvSpPr>
          <p:spPr>
            <a:xfrm>
              <a:off x="7165440" y="2396160"/>
              <a:ext cx="342000" cy="29124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313"/>
            <p:cNvSpPr/>
            <p:nvPr/>
          </p:nvSpPr>
          <p:spPr>
            <a:xfrm>
              <a:off x="7188480" y="2396880"/>
              <a:ext cx="329400" cy="2901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314"/>
            <p:cNvSpPr/>
            <p:nvPr/>
          </p:nvSpPr>
          <p:spPr>
            <a:xfrm>
              <a:off x="7201080" y="239688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315"/>
            <p:cNvSpPr/>
            <p:nvPr/>
          </p:nvSpPr>
          <p:spPr>
            <a:xfrm>
              <a:off x="7212600" y="239688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316"/>
            <p:cNvSpPr/>
            <p:nvPr/>
          </p:nvSpPr>
          <p:spPr>
            <a:xfrm>
              <a:off x="7225200" y="2397600"/>
              <a:ext cx="327240" cy="28764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317"/>
            <p:cNvSpPr/>
            <p:nvPr/>
          </p:nvSpPr>
          <p:spPr>
            <a:xfrm>
              <a:off x="7236720" y="2397600"/>
              <a:ext cx="326520" cy="2876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318"/>
            <p:cNvSpPr/>
            <p:nvPr/>
          </p:nvSpPr>
          <p:spPr>
            <a:xfrm>
              <a:off x="7249320" y="2398680"/>
              <a:ext cx="315720" cy="2858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319"/>
            <p:cNvSpPr/>
            <p:nvPr/>
          </p:nvSpPr>
          <p:spPr>
            <a:xfrm>
              <a:off x="7261920" y="240732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320"/>
            <p:cNvSpPr/>
            <p:nvPr/>
          </p:nvSpPr>
          <p:spPr>
            <a:xfrm>
              <a:off x="7273440" y="2418120"/>
              <a:ext cx="291600" cy="26640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266400"/>
                <a:gd name="textAreaBottom" fmla="*/ 266400 h 2664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321"/>
            <p:cNvSpPr/>
            <p:nvPr/>
          </p:nvSpPr>
          <p:spPr>
            <a:xfrm>
              <a:off x="7286040" y="2428920"/>
              <a:ext cx="279360" cy="2548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322"/>
            <p:cNvSpPr/>
            <p:nvPr/>
          </p:nvSpPr>
          <p:spPr>
            <a:xfrm>
              <a:off x="7297560" y="2439360"/>
              <a:ext cx="267840" cy="244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323"/>
            <p:cNvSpPr/>
            <p:nvPr/>
          </p:nvSpPr>
          <p:spPr>
            <a:xfrm>
              <a:off x="7310160" y="2450160"/>
              <a:ext cx="255240" cy="2329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324"/>
            <p:cNvSpPr/>
            <p:nvPr/>
          </p:nvSpPr>
          <p:spPr>
            <a:xfrm>
              <a:off x="7321680" y="2460600"/>
              <a:ext cx="243720" cy="222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325"/>
            <p:cNvSpPr/>
            <p:nvPr/>
          </p:nvSpPr>
          <p:spPr>
            <a:xfrm>
              <a:off x="7333920" y="2471400"/>
              <a:ext cx="231120" cy="2106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326"/>
            <p:cNvSpPr/>
            <p:nvPr/>
          </p:nvSpPr>
          <p:spPr>
            <a:xfrm>
              <a:off x="7345800" y="2481840"/>
              <a:ext cx="219600" cy="200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327"/>
            <p:cNvSpPr/>
            <p:nvPr/>
          </p:nvSpPr>
          <p:spPr>
            <a:xfrm>
              <a:off x="7358400" y="2492640"/>
              <a:ext cx="207000" cy="1893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28"/>
            <p:cNvSpPr/>
            <p:nvPr/>
          </p:nvSpPr>
          <p:spPr>
            <a:xfrm>
              <a:off x="7370640" y="2503080"/>
              <a:ext cx="194400" cy="1778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29"/>
            <p:cNvSpPr/>
            <p:nvPr/>
          </p:nvSpPr>
          <p:spPr>
            <a:xfrm>
              <a:off x="7382160" y="2513880"/>
              <a:ext cx="182880" cy="1674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30"/>
            <p:cNvSpPr/>
            <p:nvPr/>
          </p:nvSpPr>
          <p:spPr>
            <a:xfrm>
              <a:off x="7394760" y="2524680"/>
              <a:ext cx="170280" cy="1558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1"/>
            <p:cNvSpPr/>
            <p:nvPr/>
          </p:nvSpPr>
          <p:spPr>
            <a:xfrm>
              <a:off x="7406280" y="2535120"/>
              <a:ext cx="158760" cy="145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32"/>
            <p:cNvSpPr/>
            <p:nvPr/>
          </p:nvSpPr>
          <p:spPr>
            <a:xfrm>
              <a:off x="7418880" y="2545560"/>
              <a:ext cx="146160" cy="1335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33"/>
            <p:cNvSpPr/>
            <p:nvPr/>
          </p:nvSpPr>
          <p:spPr>
            <a:xfrm>
              <a:off x="7430400" y="2556360"/>
              <a:ext cx="135720" cy="1231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34"/>
            <p:cNvSpPr/>
            <p:nvPr/>
          </p:nvSpPr>
          <p:spPr>
            <a:xfrm>
              <a:off x="7085520" y="2394360"/>
              <a:ext cx="472680" cy="28512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35"/>
            <p:cNvSpPr/>
            <p:nvPr/>
          </p:nvSpPr>
          <p:spPr>
            <a:xfrm>
              <a:off x="7085520" y="2407320"/>
              <a:ext cx="472680" cy="2718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36"/>
            <p:cNvSpPr/>
            <p:nvPr/>
          </p:nvSpPr>
          <p:spPr>
            <a:xfrm>
              <a:off x="7072920" y="2675880"/>
              <a:ext cx="495000" cy="183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337"/>
            <p:cNvSpPr/>
            <p:nvPr/>
          </p:nvSpPr>
          <p:spPr>
            <a:xfrm>
              <a:off x="7070040" y="2674080"/>
              <a:ext cx="501840" cy="219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338"/>
            <p:cNvSpPr/>
            <p:nvPr/>
          </p:nvSpPr>
          <p:spPr>
            <a:xfrm>
              <a:off x="7069320" y="2377440"/>
              <a:ext cx="5760" cy="318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339"/>
            <p:cNvSpPr/>
            <p:nvPr/>
          </p:nvSpPr>
          <p:spPr>
            <a:xfrm>
              <a:off x="7092360" y="2403000"/>
              <a:ext cx="402480" cy="20520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340"/>
            <p:cNvSpPr/>
            <p:nvPr/>
          </p:nvSpPr>
          <p:spPr>
            <a:xfrm>
              <a:off x="7096320" y="2404080"/>
              <a:ext cx="392040" cy="2001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341"/>
            <p:cNvSpPr/>
            <p:nvPr/>
          </p:nvSpPr>
          <p:spPr>
            <a:xfrm>
              <a:off x="7099920" y="2405880"/>
              <a:ext cx="381240" cy="19368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342"/>
            <p:cNvSpPr/>
            <p:nvPr/>
          </p:nvSpPr>
          <p:spPr>
            <a:xfrm>
              <a:off x="7103880" y="2406600"/>
              <a:ext cx="370800" cy="188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343"/>
            <p:cNvSpPr/>
            <p:nvPr/>
          </p:nvSpPr>
          <p:spPr>
            <a:xfrm>
              <a:off x="7107840" y="2408400"/>
              <a:ext cx="361080" cy="18216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344"/>
            <p:cNvSpPr/>
            <p:nvPr/>
          </p:nvSpPr>
          <p:spPr>
            <a:xfrm>
              <a:off x="7111440" y="2409480"/>
              <a:ext cx="350640" cy="1771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345"/>
            <p:cNvSpPr/>
            <p:nvPr/>
          </p:nvSpPr>
          <p:spPr>
            <a:xfrm>
              <a:off x="7115400" y="2411280"/>
              <a:ext cx="339840" cy="17064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346"/>
            <p:cNvSpPr/>
            <p:nvPr/>
          </p:nvSpPr>
          <p:spPr>
            <a:xfrm>
              <a:off x="7119360" y="2412000"/>
              <a:ext cx="329400" cy="16560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347"/>
            <p:cNvSpPr/>
            <p:nvPr/>
          </p:nvSpPr>
          <p:spPr>
            <a:xfrm>
              <a:off x="7124040" y="2412720"/>
              <a:ext cx="318600" cy="1602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348"/>
            <p:cNvSpPr/>
            <p:nvPr/>
          </p:nvSpPr>
          <p:spPr>
            <a:xfrm>
              <a:off x="7128000" y="2414520"/>
              <a:ext cx="308160" cy="15408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349"/>
            <p:cNvSpPr/>
            <p:nvPr/>
          </p:nvSpPr>
          <p:spPr>
            <a:xfrm>
              <a:off x="7131600" y="2415600"/>
              <a:ext cx="297360" cy="1486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350"/>
            <p:cNvSpPr/>
            <p:nvPr/>
          </p:nvSpPr>
          <p:spPr>
            <a:xfrm>
              <a:off x="7135560" y="2417400"/>
              <a:ext cx="286920" cy="14256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351"/>
            <p:cNvSpPr/>
            <p:nvPr/>
          </p:nvSpPr>
          <p:spPr>
            <a:xfrm>
              <a:off x="7139520" y="2418120"/>
              <a:ext cx="276480" cy="1371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352"/>
            <p:cNvSpPr/>
            <p:nvPr/>
          </p:nvSpPr>
          <p:spPr>
            <a:xfrm>
              <a:off x="7143480" y="2419920"/>
              <a:ext cx="266760" cy="1310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353"/>
            <p:cNvSpPr/>
            <p:nvPr/>
          </p:nvSpPr>
          <p:spPr>
            <a:xfrm>
              <a:off x="7147080" y="2421000"/>
              <a:ext cx="255960" cy="1263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354"/>
            <p:cNvSpPr/>
            <p:nvPr/>
          </p:nvSpPr>
          <p:spPr>
            <a:xfrm>
              <a:off x="7151040" y="2421720"/>
              <a:ext cx="245520" cy="121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355"/>
            <p:cNvSpPr/>
            <p:nvPr/>
          </p:nvSpPr>
          <p:spPr>
            <a:xfrm>
              <a:off x="7155000" y="2423520"/>
              <a:ext cx="235080" cy="1152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56"/>
            <p:cNvSpPr/>
            <p:nvPr/>
          </p:nvSpPr>
          <p:spPr>
            <a:xfrm>
              <a:off x="7158600" y="2424240"/>
              <a:ext cx="225360" cy="109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357"/>
            <p:cNvSpPr/>
            <p:nvPr/>
          </p:nvSpPr>
          <p:spPr>
            <a:xfrm>
              <a:off x="7162560" y="2426040"/>
              <a:ext cx="214560" cy="103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358"/>
            <p:cNvSpPr/>
            <p:nvPr/>
          </p:nvSpPr>
          <p:spPr>
            <a:xfrm>
              <a:off x="7166520" y="2427120"/>
              <a:ext cx="204120" cy="982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359"/>
            <p:cNvSpPr/>
            <p:nvPr/>
          </p:nvSpPr>
          <p:spPr>
            <a:xfrm>
              <a:off x="7171200" y="2428920"/>
              <a:ext cx="192600" cy="918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360"/>
            <p:cNvSpPr/>
            <p:nvPr/>
          </p:nvSpPr>
          <p:spPr>
            <a:xfrm>
              <a:off x="7175160" y="2429640"/>
              <a:ext cx="181800" cy="867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361"/>
            <p:cNvSpPr/>
            <p:nvPr/>
          </p:nvSpPr>
          <p:spPr>
            <a:xfrm>
              <a:off x="7179120" y="2430720"/>
              <a:ext cx="172440" cy="81360"/>
            </a:xfrm>
            <a:custGeom>
              <a:avLst/>
              <a:gdLst>
                <a:gd name="textAreaLeft" fmla="*/ 0 w 172440"/>
                <a:gd name="textAreaRight" fmla="*/ 172440 w 1724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362"/>
            <p:cNvSpPr/>
            <p:nvPr/>
          </p:nvSpPr>
          <p:spPr>
            <a:xfrm>
              <a:off x="7182720" y="2432160"/>
              <a:ext cx="161640" cy="7524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6" name="Picture 20" descr="DVD"/>
          <p:cNvPicPr/>
          <p:nvPr/>
        </p:nvPicPr>
        <p:blipFill>
          <a:blip r:embed="rId2"/>
          <a:stretch/>
        </p:blipFill>
        <p:spPr>
          <a:xfrm>
            <a:off x="7246800" y="2627280"/>
            <a:ext cx="540000" cy="16848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8"/>
          <p:cNvSpPr/>
          <p:nvPr/>
        </p:nvSpPr>
        <p:spPr>
          <a:xfrm>
            <a:off x="246240" y="2347920"/>
            <a:ext cx="947520" cy="1295280"/>
          </a:xfrm>
          <a:custGeom>
            <a:avLst/>
            <a:gdLst>
              <a:gd name="textAreaLeft" fmla="*/ 21240 w 947520"/>
              <a:gd name="textAreaRight" fmla="*/ 926280 w 947520"/>
              <a:gd name="textAreaTop" fmla="*/ 21240 h 1295280"/>
              <a:gd name="textAreaBottom" fmla="*/ 1274040 h 1295280"/>
            </a:gdLst>
            <a:ahLst/>
            <a:rect l="textAreaLeft" t="textAreaTop" r="textAreaRight" b="textAreaBottom"/>
            <a:pathLst>
              <a:path w="21600" h="29525">
                <a:moveTo>
                  <a:pt x="1672" y="0"/>
                </a:moveTo>
                <a:arcTo wR="1672" hR="1672" stAng="16200000" swAng="-5400000"/>
                <a:lnTo>
                  <a:pt x="0" y="27853"/>
                </a:lnTo>
                <a:arcTo wR="1672" hR="1672" stAng="10800000" swAng="-5400000"/>
                <a:lnTo>
                  <a:pt x="19928" y="29525"/>
                </a:lnTo>
                <a:arcTo wR="1672" hR="1672" stAng="5400000" swAng="-5400000"/>
                <a:lnTo>
                  <a:pt x="21600" y="1672"/>
                </a:lnTo>
                <a:arcTo wR="1672" hR="167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83"/>
          <p:cNvSpPr/>
          <p:nvPr/>
        </p:nvSpPr>
        <p:spPr>
          <a:xfrm>
            <a:off x="189000" y="2862360"/>
            <a:ext cx="113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s delivery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246240" y="3789360"/>
            <a:ext cx="947520" cy="62244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233280" y="5156280"/>
            <a:ext cx="947880" cy="64908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8"/>
          <p:cNvSpPr/>
          <p:nvPr/>
        </p:nvSpPr>
        <p:spPr>
          <a:xfrm>
            <a:off x="-131400" y="4653000"/>
            <a:ext cx="1095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5"/>
          <p:cNvSpPr/>
          <p:nvPr/>
        </p:nvSpPr>
        <p:spPr>
          <a:xfrm>
            <a:off x="7701120" y="2276640"/>
            <a:ext cx="91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B + 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26" descr="j0432596[1]"/>
          <p:cNvPicPr/>
          <p:nvPr/>
        </p:nvPicPr>
        <p:blipFill>
          <a:blip r:embed="rId3"/>
          <a:stretch/>
        </p:blipFill>
        <p:spPr>
          <a:xfrm>
            <a:off x="7102440" y="4076640"/>
            <a:ext cx="474840" cy="4525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373"/>
          <p:cNvSpPr/>
          <p:nvPr/>
        </p:nvSpPr>
        <p:spPr>
          <a:xfrm>
            <a:off x="6958080" y="1266840"/>
            <a:ext cx="1584360" cy="930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25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own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tion ow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74"/>
          <p:cNvSpPr/>
          <p:nvPr/>
        </p:nvSpPr>
        <p:spPr>
          <a:xfrm>
            <a:off x="5289480" y="1251000"/>
            <a:ext cx="1596960" cy="92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 operator (WAN) , Location owner (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75"/>
          <p:cNvSpPr/>
          <p:nvPr/>
        </p:nvSpPr>
        <p:spPr>
          <a:xfrm>
            <a:off x="3002040" y="1251000"/>
            <a:ext cx="860400" cy="930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25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76"/>
          <p:cNvSpPr/>
          <p:nvPr/>
        </p:nvSpPr>
        <p:spPr>
          <a:xfrm>
            <a:off x="1486080" y="1251000"/>
            <a:ext cx="1439640" cy="946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/contents distribution platform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77"/>
          <p:cNvSpPr/>
          <p:nvPr/>
        </p:nvSpPr>
        <p:spPr>
          <a:xfrm>
            <a:off x="3933720" y="1251000"/>
            <a:ext cx="1297080" cy="92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platform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81"/>
          <p:cNvSpPr/>
          <p:nvPr/>
        </p:nvSpPr>
        <p:spPr>
          <a:xfrm>
            <a:off x="179280" y="1251000"/>
            <a:ext cx="1235160" cy="92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s hold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ert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73"/>
          <p:cNvSpPr/>
          <p:nvPr/>
        </p:nvSpPr>
        <p:spPr>
          <a:xfrm>
            <a:off x="3933720" y="765000"/>
            <a:ext cx="4608720" cy="429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system ven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1758960" y="3102120"/>
            <a:ext cx="1027080" cy="1731960"/>
          </a:xfrm>
          <a:custGeom>
            <a:avLst/>
            <a:gdLst>
              <a:gd name="textAreaLeft" fmla="*/ 14400 w 1027080"/>
              <a:gd name="textAreaRight" fmla="*/ 1012680 w 1027080"/>
              <a:gd name="textAreaTop" fmla="*/ 14400 h 1731960"/>
              <a:gd name="textAreaBottom" fmla="*/ 1717560 h 1731960"/>
            </a:gdLst>
            <a:ahLst/>
            <a:rect l="textAreaLeft" t="textAreaTop" r="textAreaRight" b="textAreaBottom"/>
            <a:pathLst>
              <a:path w="21600" h="36419">
                <a:moveTo>
                  <a:pt x="1042" y="0"/>
                </a:moveTo>
                <a:arcTo wR="1042" hR="1042" stAng="16200000" swAng="-5400000"/>
                <a:lnTo>
                  <a:pt x="0" y="35377"/>
                </a:lnTo>
                <a:arcTo wR="1042" hR="1042" stAng="10800000" swAng="-5400000"/>
                <a:lnTo>
                  <a:pt x="20558" y="36419"/>
                </a:lnTo>
                <a:arcTo wR="1042" hR="1042" stAng="5400000" swAng="-5400000"/>
                <a:lnTo>
                  <a:pt x="21600" y="1042"/>
                </a:lnTo>
                <a:arcTo wR="1042" hR="10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83"/>
          <p:cNvSpPr/>
          <p:nvPr/>
        </p:nvSpPr>
        <p:spPr>
          <a:xfrm>
            <a:off x="1701720" y="4005360"/>
            <a:ext cx="116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/contents delive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364"/>
          <p:cNvSpPr/>
          <p:nvPr/>
        </p:nvSpPr>
        <p:spPr>
          <a:xfrm>
            <a:off x="3083040" y="2633760"/>
            <a:ext cx="666720" cy="3127320"/>
          </a:xfrm>
          <a:prstGeom prst="cloudCallout">
            <a:avLst>
              <a:gd name="adj1" fmla="val 33092"/>
              <a:gd name="adj2" fmla="val 31115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9"/>
          <p:cNvSpPr/>
          <p:nvPr/>
        </p:nvSpPr>
        <p:spPr>
          <a:xfrm>
            <a:off x="4076640" y="2451240"/>
            <a:ext cx="1081080" cy="3030480"/>
          </a:xfrm>
          <a:custGeom>
            <a:avLst/>
            <a:gdLst>
              <a:gd name="textAreaLeft" fmla="*/ 10440 w 1081080"/>
              <a:gd name="textAreaRight" fmla="*/ 1070640 w 1081080"/>
              <a:gd name="textAreaTop" fmla="*/ 10440 h 3030480"/>
              <a:gd name="textAreaBottom" fmla="*/ 3020040 h 3030480"/>
            </a:gdLst>
            <a:ahLst/>
            <a:rect l="textAreaLeft" t="textAreaTop" r="textAreaRight" b="textAreaBottom"/>
            <a:pathLst>
              <a:path w="21600" h="60536">
                <a:moveTo>
                  <a:pt x="715" y="0"/>
                </a:moveTo>
                <a:arcTo wR="715" hR="715" stAng="16200000" swAng="-5400000"/>
                <a:lnTo>
                  <a:pt x="0" y="59821"/>
                </a:lnTo>
                <a:arcTo wR="715" hR="715" stAng="10800000" swAng="-5400000"/>
                <a:lnTo>
                  <a:pt x="20885" y="60536"/>
                </a:lnTo>
                <a:arcTo wR="715" hR="715" stAng="5400000" swAng="-5400000"/>
                <a:lnTo>
                  <a:pt x="21600" y="715"/>
                </a:lnTo>
                <a:arcTo wR="715" hR="715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9"/>
          <p:cNvSpPr/>
          <p:nvPr/>
        </p:nvSpPr>
        <p:spPr>
          <a:xfrm>
            <a:off x="4175640" y="4506840"/>
            <a:ext cx="88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792" descr="詳細を表示"/>
          <p:cNvPicPr/>
          <p:nvPr/>
        </p:nvPicPr>
        <p:blipFill>
          <a:blip r:embed="rId5"/>
          <a:stretch/>
        </p:blipFill>
        <p:spPr>
          <a:xfrm>
            <a:off x="4294080" y="3859200"/>
            <a:ext cx="719280" cy="63504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32"/>
          <p:cNvGrpSpPr/>
          <p:nvPr/>
        </p:nvGrpSpPr>
        <p:grpSpPr>
          <a:xfrm>
            <a:off x="7058160" y="4643280"/>
            <a:ext cx="576000" cy="360360"/>
            <a:chOff x="7058160" y="4643280"/>
            <a:chExt cx="576000" cy="360360"/>
          </a:xfrm>
        </p:grpSpPr>
        <p:sp>
          <p:nvSpPr>
            <p:cNvPr id="418" name="Freeform 33"/>
            <p:cNvSpPr/>
            <p:nvPr/>
          </p:nvSpPr>
          <p:spPr>
            <a:xfrm>
              <a:off x="7058160" y="4643280"/>
              <a:ext cx="576000" cy="3603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34"/>
            <p:cNvSpPr/>
            <p:nvPr/>
          </p:nvSpPr>
          <p:spPr>
            <a:xfrm>
              <a:off x="7058160" y="4643280"/>
              <a:ext cx="324000" cy="2973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35"/>
            <p:cNvSpPr/>
            <p:nvPr/>
          </p:nvSpPr>
          <p:spPr>
            <a:xfrm>
              <a:off x="7058160" y="4654440"/>
              <a:ext cx="330120" cy="293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7058160" y="4654440"/>
              <a:ext cx="337680" cy="30024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7058160" y="4654440"/>
              <a:ext cx="345240" cy="30708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38"/>
            <p:cNvSpPr/>
            <p:nvPr/>
          </p:nvSpPr>
          <p:spPr>
            <a:xfrm>
              <a:off x="7058160" y="4655160"/>
              <a:ext cx="352440" cy="3124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39"/>
            <p:cNvSpPr/>
            <p:nvPr/>
          </p:nvSpPr>
          <p:spPr>
            <a:xfrm>
              <a:off x="7058160" y="4655160"/>
              <a:ext cx="360000" cy="3193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40"/>
            <p:cNvSpPr/>
            <p:nvPr/>
          </p:nvSpPr>
          <p:spPr>
            <a:xfrm>
              <a:off x="7058160" y="4655160"/>
              <a:ext cx="367560" cy="3258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41"/>
            <p:cNvSpPr/>
            <p:nvPr/>
          </p:nvSpPr>
          <p:spPr>
            <a:xfrm>
              <a:off x="7058160" y="4656240"/>
              <a:ext cx="374760" cy="331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42"/>
            <p:cNvSpPr/>
            <p:nvPr/>
          </p:nvSpPr>
          <p:spPr>
            <a:xfrm>
              <a:off x="7058160" y="4656240"/>
              <a:ext cx="381240" cy="3380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43"/>
            <p:cNvSpPr/>
            <p:nvPr/>
          </p:nvSpPr>
          <p:spPr>
            <a:xfrm>
              <a:off x="7058160" y="46562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44"/>
            <p:cNvSpPr/>
            <p:nvPr/>
          </p:nvSpPr>
          <p:spPr>
            <a:xfrm>
              <a:off x="7063200" y="4657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45"/>
            <p:cNvSpPr/>
            <p:nvPr/>
          </p:nvSpPr>
          <p:spPr>
            <a:xfrm>
              <a:off x="7071840" y="4657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46"/>
            <p:cNvSpPr/>
            <p:nvPr/>
          </p:nvSpPr>
          <p:spPr>
            <a:xfrm>
              <a:off x="7080120" y="4657320"/>
              <a:ext cx="398160" cy="34632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47"/>
            <p:cNvSpPr/>
            <p:nvPr/>
          </p:nvSpPr>
          <p:spPr>
            <a:xfrm>
              <a:off x="7089840" y="4658040"/>
              <a:ext cx="397080" cy="344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48"/>
            <p:cNvSpPr/>
            <p:nvPr/>
          </p:nvSpPr>
          <p:spPr>
            <a:xfrm>
              <a:off x="7098120" y="4658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49"/>
            <p:cNvSpPr/>
            <p:nvPr/>
          </p:nvSpPr>
          <p:spPr>
            <a:xfrm>
              <a:off x="7106760" y="4658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50"/>
            <p:cNvSpPr/>
            <p:nvPr/>
          </p:nvSpPr>
          <p:spPr>
            <a:xfrm>
              <a:off x="7115040" y="4658040"/>
              <a:ext cx="394920" cy="3434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51"/>
            <p:cNvSpPr/>
            <p:nvPr/>
          </p:nvSpPr>
          <p:spPr>
            <a:xfrm>
              <a:off x="7123680" y="4659120"/>
              <a:ext cx="394920" cy="34272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52"/>
            <p:cNvSpPr/>
            <p:nvPr/>
          </p:nvSpPr>
          <p:spPr>
            <a:xfrm>
              <a:off x="7131960" y="4659120"/>
              <a:ext cx="501840" cy="3427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53"/>
            <p:cNvSpPr/>
            <p:nvPr/>
          </p:nvSpPr>
          <p:spPr>
            <a:xfrm>
              <a:off x="7618320" y="4673160"/>
              <a:ext cx="936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54"/>
            <p:cNvSpPr/>
            <p:nvPr/>
          </p:nvSpPr>
          <p:spPr>
            <a:xfrm>
              <a:off x="7075080" y="4656240"/>
              <a:ext cx="548640" cy="334080"/>
            </a:xfrm>
            <a:custGeom>
              <a:avLst/>
              <a:gdLst>
                <a:gd name="textAreaLeft" fmla="*/ 0 w 548640"/>
                <a:gd name="textAreaRight" fmla="*/ 548640 w 54864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55"/>
            <p:cNvSpPr/>
            <p:nvPr/>
          </p:nvSpPr>
          <p:spPr>
            <a:xfrm>
              <a:off x="7058160" y="4643280"/>
              <a:ext cx="3960" cy="145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56"/>
            <p:cNvSpPr/>
            <p:nvPr/>
          </p:nvSpPr>
          <p:spPr>
            <a:xfrm>
              <a:off x="7079040" y="4659840"/>
              <a:ext cx="541080" cy="32688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57"/>
            <p:cNvSpPr/>
            <p:nvPr/>
          </p:nvSpPr>
          <p:spPr>
            <a:xfrm>
              <a:off x="7079040" y="4659840"/>
              <a:ext cx="217080" cy="1972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58"/>
            <p:cNvSpPr/>
            <p:nvPr/>
          </p:nvSpPr>
          <p:spPr>
            <a:xfrm>
              <a:off x="7080120" y="4666680"/>
              <a:ext cx="228600" cy="201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59"/>
            <p:cNvSpPr/>
            <p:nvPr/>
          </p:nvSpPr>
          <p:spPr>
            <a:xfrm>
              <a:off x="7080120" y="4667400"/>
              <a:ext cx="240480" cy="21096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60"/>
            <p:cNvSpPr/>
            <p:nvPr/>
          </p:nvSpPr>
          <p:spPr>
            <a:xfrm>
              <a:off x="7080120" y="4667400"/>
              <a:ext cx="252000" cy="222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61"/>
            <p:cNvSpPr/>
            <p:nvPr/>
          </p:nvSpPr>
          <p:spPr>
            <a:xfrm>
              <a:off x="7080120" y="4667400"/>
              <a:ext cx="263520" cy="2325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62"/>
            <p:cNvSpPr/>
            <p:nvPr/>
          </p:nvSpPr>
          <p:spPr>
            <a:xfrm>
              <a:off x="7080120" y="4668480"/>
              <a:ext cx="275400" cy="2422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63"/>
            <p:cNvSpPr/>
            <p:nvPr/>
          </p:nvSpPr>
          <p:spPr>
            <a:xfrm>
              <a:off x="7080120" y="4668480"/>
              <a:ext cx="286920" cy="2534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64"/>
            <p:cNvSpPr/>
            <p:nvPr/>
          </p:nvSpPr>
          <p:spPr>
            <a:xfrm>
              <a:off x="7080120" y="4668480"/>
              <a:ext cx="298440" cy="2638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65"/>
            <p:cNvSpPr/>
            <p:nvPr/>
          </p:nvSpPr>
          <p:spPr>
            <a:xfrm>
              <a:off x="7080120" y="4669560"/>
              <a:ext cx="310320" cy="27324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66"/>
            <p:cNvSpPr/>
            <p:nvPr/>
          </p:nvSpPr>
          <p:spPr>
            <a:xfrm>
              <a:off x="7080120" y="4669560"/>
              <a:ext cx="321840" cy="28440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67"/>
            <p:cNvSpPr/>
            <p:nvPr/>
          </p:nvSpPr>
          <p:spPr>
            <a:xfrm>
              <a:off x="7080120" y="467028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68"/>
            <p:cNvSpPr/>
            <p:nvPr/>
          </p:nvSpPr>
          <p:spPr>
            <a:xfrm>
              <a:off x="7080120" y="4670280"/>
              <a:ext cx="345240" cy="3042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69"/>
            <p:cNvSpPr/>
            <p:nvPr/>
          </p:nvSpPr>
          <p:spPr>
            <a:xfrm>
              <a:off x="7080120" y="4670280"/>
              <a:ext cx="356760" cy="315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70"/>
            <p:cNvSpPr/>
            <p:nvPr/>
          </p:nvSpPr>
          <p:spPr>
            <a:xfrm>
              <a:off x="7080120" y="4671360"/>
              <a:ext cx="368640" cy="3153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71"/>
            <p:cNvSpPr/>
            <p:nvPr/>
          </p:nvSpPr>
          <p:spPr>
            <a:xfrm>
              <a:off x="7092000" y="4671360"/>
              <a:ext cx="368640" cy="3146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72"/>
            <p:cNvSpPr/>
            <p:nvPr/>
          </p:nvSpPr>
          <p:spPr>
            <a:xfrm>
              <a:off x="7104600" y="4672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73"/>
            <p:cNvSpPr/>
            <p:nvPr/>
          </p:nvSpPr>
          <p:spPr>
            <a:xfrm>
              <a:off x="7116120" y="4672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74"/>
            <p:cNvSpPr/>
            <p:nvPr/>
          </p:nvSpPr>
          <p:spPr>
            <a:xfrm>
              <a:off x="7128720" y="4672080"/>
              <a:ext cx="367560" cy="31248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75"/>
            <p:cNvSpPr/>
            <p:nvPr/>
          </p:nvSpPr>
          <p:spPr>
            <a:xfrm>
              <a:off x="7141680" y="4673160"/>
              <a:ext cx="366480" cy="31176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76"/>
            <p:cNvSpPr/>
            <p:nvPr/>
          </p:nvSpPr>
          <p:spPr>
            <a:xfrm>
              <a:off x="7154280" y="4673160"/>
              <a:ext cx="365400" cy="3106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77"/>
            <p:cNvSpPr/>
            <p:nvPr/>
          </p:nvSpPr>
          <p:spPr>
            <a:xfrm>
              <a:off x="7166880" y="4673160"/>
              <a:ext cx="364320" cy="31068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78"/>
            <p:cNvSpPr/>
            <p:nvPr/>
          </p:nvSpPr>
          <p:spPr>
            <a:xfrm>
              <a:off x="7179840" y="4674240"/>
              <a:ext cx="375840" cy="3088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79"/>
            <p:cNvSpPr/>
            <p:nvPr/>
          </p:nvSpPr>
          <p:spPr>
            <a:xfrm>
              <a:off x="7205040" y="4674960"/>
              <a:ext cx="362160" cy="3078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80"/>
            <p:cNvSpPr/>
            <p:nvPr/>
          </p:nvSpPr>
          <p:spPr>
            <a:xfrm>
              <a:off x="7219080" y="4674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81"/>
            <p:cNvSpPr/>
            <p:nvPr/>
          </p:nvSpPr>
          <p:spPr>
            <a:xfrm>
              <a:off x="7231680" y="4674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82"/>
            <p:cNvSpPr/>
            <p:nvPr/>
          </p:nvSpPr>
          <p:spPr>
            <a:xfrm>
              <a:off x="7245360" y="4676040"/>
              <a:ext cx="360000" cy="30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83"/>
            <p:cNvSpPr/>
            <p:nvPr/>
          </p:nvSpPr>
          <p:spPr>
            <a:xfrm>
              <a:off x="7257960" y="4676040"/>
              <a:ext cx="358920" cy="305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84"/>
            <p:cNvSpPr/>
            <p:nvPr/>
          </p:nvSpPr>
          <p:spPr>
            <a:xfrm>
              <a:off x="7272000" y="4676760"/>
              <a:ext cx="347400" cy="3031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85"/>
            <p:cNvSpPr/>
            <p:nvPr/>
          </p:nvSpPr>
          <p:spPr>
            <a:xfrm>
              <a:off x="7285680" y="468612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86"/>
            <p:cNvSpPr/>
            <p:nvPr/>
          </p:nvSpPr>
          <p:spPr>
            <a:xfrm>
              <a:off x="7298640" y="4697640"/>
              <a:ext cx="320760" cy="2826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87"/>
            <p:cNvSpPr/>
            <p:nvPr/>
          </p:nvSpPr>
          <p:spPr>
            <a:xfrm>
              <a:off x="7312320" y="4708800"/>
              <a:ext cx="307080" cy="2703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88"/>
            <p:cNvSpPr/>
            <p:nvPr/>
          </p:nvSpPr>
          <p:spPr>
            <a:xfrm>
              <a:off x="7324920" y="4719960"/>
              <a:ext cx="294480" cy="259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89"/>
            <p:cNvSpPr/>
            <p:nvPr/>
          </p:nvSpPr>
          <p:spPr>
            <a:xfrm>
              <a:off x="7338600" y="4731480"/>
              <a:ext cx="280440" cy="2469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90"/>
            <p:cNvSpPr/>
            <p:nvPr/>
          </p:nvSpPr>
          <p:spPr>
            <a:xfrm>
              <a:off x="7351560" y="4742640"/>
              <a:ext cx="267840" cy="235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91"/>
            <p:cNvSpPr/>
            <p:nvPr/>
          </p:nvSpPr>
          <p:spPr>
            <a:xfrm>
              <a:off x="7365240" y="4753800"/>
              <a:ext cx="254160" cy="2232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92"/>
            <p:cNvSpPr/>
            <p:nvPr/>
          </p:nvSpPr>
          <p:spPr>
            <a:xfrm>
              <a:off x="7377840" y="4765320"/>
              <a:ext cx="241560" cy="2120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93"/>
            <p:cNvSpPr/>
            <p:nvPr/>
          </p:nvSpPr>
          <p:spPr>
            <a:xfrm>
              <a:off x="7391520" y="4776480"/>
              <a:ext cx="227520" cy="20088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94"/>
            <p:cNvSpPr/>
            <p:nvPr/>
          </p:nvSpPr>
          <p:spPr>
            <a:xfrm>
              <a:off x="7405560" y="4787640"/>
              <a:ext cx="213840" cy="1886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95"/>
            <p:cNvSpPr/>
            <p:nvPr/>
          </p:nvSpPr>
          <p:spPr>
            <a:xfrm>
              <a:off x="7418160" y="4799160"/>
              <a:ext cx="201240" cy="17748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96"/>
            <p:cNvSpPr/>
            <p:nvPr/>
          </p:nvSpPr>
          <p:spPr>
            <a:xfrm>
              <a:off x="7431840" y="4810320"/>
              <a:ext cx="187200" cy="1652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97"/>
            <p:cNvSpPr/>
            <p:nvPr/>
          </p:nvSpPr>
          <p:spPr>
            <a:xfrm>
              <a:off x="7444800" y="4821480"/>
              <a:ext cx="174600" cy="154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98"/>
            <p:cNvSpPr/>
            <p:nvPr/>
          </p:nvSpPr>
          <p:spPr>
            <a:xfrm>
              <a:off x="7458480" y="4832640"/>
              <a:ext cx="160920" cy="1418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99"/>
            <p:cNvSpPr/>
            <p:nvPr/>
          </p:nvSpPr>
          <p:spPr>
            <a:xfrm>
              <a:off x="7471080" y="4844160"/>
              <a:ext cx="149400" cy="1303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00"/>
            <p:cNvSpPr/>
            <p:nvPr/>
          </p:nvSpPr>
          <p:spPr>
            <a:xfrm>
              <a:off x="7092000" y="4672080"/>
              <a:ext cx="519840" cy="30240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01"/>
            <p:cNvSpPr/>
            <p:nvPr/>
          </p:nvSpPr>
          <p:spPr>
            <a:xfrm>
              <a:off x="7092000" y="4686120"/>
              <a:ext cx="519840" cy="28836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02"/>
            <p:cNvSpPr/>
            <p:nvPr/>
          </p:nvSpPr>
          <p:spPr>
            <a:xfrm>
              <a:off x="7077960" y="4970880"/>
              <a:ext cx="544320" cy="1944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03"/>
            <p:cNvSpPr/>
            <p:nvPr/>
          </p:nvSpPr>
          <p:spPr>
            <a:xfrm>
              <a:off x="7075080" y="4969080"/>
              <a:ext cx="551880" cy="234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04"/>
            <p:cNvSpPr/>
            <p:nvPr/>
          </p:nvSpPr>
          <p:spPr>
            <a:xfrm>
              <a:off x="7074000" y="4654440"/>
              <a:ext cx="6120" cy="338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05"/>
            <p:cNvSpPr/>
            <p:nvPr/>
          </p:nvSpPr>
          <p:spPr>
            <a:xfrm>
              <a:off x="7099200" y="4681440"/>
              <a:ext cx="442440" cy="21780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06"/>
            <p:cNvSpPr/>
            <p:nvPr/>
          </p:nvSpPr>
          <p:spPr>
            <a:xfrm>
              <a:off x="7103520" y="4682520"/>
              <a:ext cx="430920" cy="21204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107"/>
            <p:cNvSpPr/>
            <p:nvPr/>
          </p:nvSpPr>
          <p:spPr>
            <a:xfrm>
              <a:off x="7107840" y="4684320"/>
              <a:ext cx="419400" cy="205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108"/>
            <p:cNvSpPr/>
            <p:nvPr/>
          </p:nvSpPr>
          <p:spPr>
            <a:xfrm>
              <a:off x="7111800" y="4685400"/>
              <a:ext cx="407880" cy="19980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09"/>
            <p:cNvSpPr/>
            <p:nvPr/>
          </p:nvSpPr>
          <p:spPr>
            <a:xfrm>
              <a:off x="7116120" y="4687200"/>
              <a:ext cx="397080" cy="1933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10"/>
            <p:cNvSpPr/>
            <p:nvPr/>
          </p:nvSpPr>
          <p:spPr>
            <a:xfrm>
              <a:off x="7120440" y="4688280"/>
              <a:ext cx="385560" cy="187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11"/>
            <p:cNvSpPr/>
            <p:nvPr/>
          </p:nvSpPr>
          <p:spPr>
            <a:xfrm>
              <a:off x="7124760" y="4690080"/>
              <a:ext cx="373680" cy="18108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12"/>
            <p:cNvSpPr/>
            <p:nvPr/>
          </p:nvSpPr>
          <p:spPr>
            <a:xfrm>
              <a:off x="7128720" y="4691160"/>
              <a:ext cx="362160" cy="1753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13"/>
            <p:cNvSpPr/>
            <p:nvPr/>
          </p:nvSpPr>
          <p:spPr>
            <a:xfrm>
              <a:off x="7134120" y="4691880"/>
              <a:ext cx="350640" cy="1699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14"/>
            <p:cNvSpPr/>
            <p:nvPr/>
          </p:nvSpPr>
          <p:spPr>
            <a:xfrm>
              <a:off x="7138440" y="4693680"/>
              <a:ext cx="338760" cy="1634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15"/>
            <p:cNvSpPr/>
            <p:nvPr/>
          </p:nvSpPr>
          <p:spPr>
            <a:xfrm>
              <a:off x="7142760" y="4694760"/>
              <a:ext cx="327240" cy="15768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16"/>
            <p:cNvSpPr/>
            <p:nvPr/>
          </p:nvSpPr>
          <p:spPr>
            <a:xfrm>
              <a:off x="7146720" y="4696560"/>
              <a:ext cx="315720" cy="1512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17"/>
            <p:cNvSpPr/>
            <p:nvPr/>
          </p:nvSpPr>
          <p:spPr>
            <a:xfrm>
              <a:off x="7151040" y="4697640"/>
              <a:ext cx="303840" cy="14544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18"/>
            <p:cNvSpPr/>
            <p:nvPr/>
          </p:nvSpPr>
          <p:spPr>
            <a:xfrm>
              <a:off x="7155360" y="4699440"/>
              <a:ext cx="293400" cy="13896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119"/>
            <p:cNvSpPr/>
            <p:nvPr/>
          </p:nvSpPr>
          <p:spPr>
            <a:xfrm>
              <a:off x="7159680" y="4700520"/>
              <a:ext cx="281520" cy="1342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120"/>
            <p:cNvSpPr/>
            <p:nvPr/>
          </p:nvSpPr>
          <p:spPr>
            <a:xfrm>
              <a:off x="7164000" y="4701240"/>
              <a:ext cx="270000" cy="1285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121"/>
            <p:cNvSpPr/>
            <p:nvPr/>
          </p:nvSpPr>
          <p:spPr>
            <a:xfrm>
              <a:off x="7167960" y="4703040"/>
              <a:ext cx="258480" cy="1220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122"/>
            <p:cNvSpPr/>
            <p:nvPr/>
          </p:nvSpPr>
          <p:spPr>
            <a:xfrm>
              <a:off x="7172280" y="4704120"/>
              <a:ext cx="247680" cy="116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23"/>
            <p:cNvSpPr/>
            <p:nvPr/>
          </p:nvSpPr>
          <p:spPr>
            <a:xfrm>
              <a:off x="7176600" y="4705920"/>
              <a:ext cx="236160" cy="1098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24"/>
            <p:cNvSpPr/>
            <p:nvPr/>
          </p:nvSpPr>
          <p:spPr>
            <a:xfrm>
              <a:off x="7180920" y="4707000"/>
              <a:ext cx="224280" cy="1040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25"/>
            <p:cNvSpPr/>
            <p:nvPr/>
          </p:nvSpPr>
          <p:spPr>
            <a:xfrm>
              <a:off x="7186320" y="4708800"/>
              <a:ext cx="211680" cy="975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26"/>
            <p:cNvSpPr/>
            <p:nvPr/>
          </p:nvSpPr>
          <p:spPr>
            <a:xfrm>
              <a:off x="7190280" y="4709880"/>
              <a:ext cx="200160" cy="918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27"/>
            <p:cNvSpPr/>
            <p:nvPr/>
          </p:nvSpPr>
          <p:spPr>
            <a:xfrm>
              <a:off x="7194600" y="4710600"/>
              <a:ext cx="189360" cy="8604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28"/>
            <p:cNvSpPr/>
            <p:nvPr/>
          </p:nvSpPr>
          <p:spPr>
            <a:xfrm>
              <a:off x="7198920" y="4712400"/>
              <a:ext cx="177840" cy="795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AutoShape 365"/>
          <p:cNvSpPr/>
          <p:nvPr/>
        </p:nvSpPr>
        <p:spPr>
          <a:xfrm>
            <a:off x="5518080" y="2637000"/>
            <a:ext cx="792360" cy="3168360"/>
          </a:xfrm>
          <a:prstGeom prst="cloudCallout">
            <a:avLst>
              <a:gd name="adj1" fmla="val 38981"/>
              <a:gd name="adj2" fmla="val 2981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796" descr="写真：HVR（監視カメラ）システム"/>
          <p:cNvPicPr/>
          <p:nvPr/>
        </p:nvPicPr>
        <p:blipFill>
          <a:blip r:embed="rId7"/>
          <a:stretch/>
        </p:blipFill>
        <p:spPr>
          <a:xfrm>
            <a:off x="7192800" y="5640480"/>
            <a:ext cx="374760" cy="374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97" descr="写真：防犯ライト「センサーライト」"/>
          <p:cNvPicPr/>
          <p:nvPr/>
        </p:nvPicPr>
        <p:blipFill>
          <a:blip r:embed="rId8"/>
          <a:stretch/>
        </p:blipFill>
        <p:spPr>
          <a:xfrm>
            <a:off x="7823160" y="5640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798"/>
          <p:cNvSpPr/>
          <p:nvPr/>
        </p:nvSpPr>
        <p:spPr>
          <a:xfrm>
            <a:off x="6885360" y="600084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e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131" descr="j0431633[1]"/>
          <p:cNvPicPr/>
          <p:nvPr/>
        </p:nvPicPr>
        <p:blipFill>
          <a:blip r:embed="rId9"/>
          <a:stretch/>
        </p:blipFill>
        <p:spPr>
          <a:xfrm>
            <a:off x="7086600" y="3490920"/>
            <a:ext cx="519120" cy="495360"/>
          </a:xfrm>
          <a:prstGeom prst="rect">
            <a:avLst/>
          </a:prstGeom>
          <a:ln w="0">
            <a:noFill/>
          </a:ln>
        </p:spPr>
      </p:pic>
      <p:sp>
        <p:nvSpPr>
          <p:cNvPr id="519" name="Line 800"/>
          <p:cNvSpPr/>
          <p:nvPr/>
        </p:nvSpPr>
        <p:spPr>
          <a:xfrm flipV="1">
            <a:off x="7343640" y="5246640"/>
            <a:ext cx="0" cy="3938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5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82"/>
          <p:cNvSpPr/>
          <p:nvPr/>
        </p:nvSpPr>
        <p:spPr>
          <a:xfrm>
            <a:off x="8629560" y="2276640"/>
            <a:ext cx="338400" cy="3671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カギ線コネクタ 277"/>
          <p:cNvCxnSpPr>
            <a:stCxn id="397" idx="3"/>
            <a:endCxn id="411" idx="1"/>
          </p:cNvCxnSpPr>
          <p:nvPr/>
        </p:nvCxnSpPr>
        <p:spPr>
          <a:xfrm>
            <a:off x="1193760" y="2995200"/>
            <a:ext cx="565920" cy="97380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23" name="カギ線コネクタ 278"/>
          <p:cNvCxnSpPr>
            <a:stCxn id="400" idx="3"/>
            <a:endCxn id="411" idx="1"/>
          </p:cNvCxnSpPr>
          <p:nvPr/>
        </p:nvCxnSpPr>
        <p:spPr>
          <a:xfrm flipV="1">
            <a:off x="1180800" y="3967920"/>
            <a:ext cx="578520" cy="151380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24" name="カギ線コネクタ 281"/>
          <p:cNvCxnSpPr>
            <a:stCxn id="399" idx="3"/>
            <a:endCxn id="411" idx="1"/>
          </p:cNvCxnSpPr>
          <p:nvPr/>
        </p:nvCxnSpPr>
        <p:spPr>
          <a:xfrm flipV="1">
            <a:off x="1193760" y="3968280"/>
            <a:ext cx="565920" cy="13248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25" name="カギ線コネクタ 288"/>
          <p:cNvCxnSpPr>
            <a:stCxn id="411" idx="3"/>
            <a:endCxn id="414" idx="1"/>
          </p:cNvCxnSpPr>
          <p:nvPr/>
        </p:nvCxnSpPr>
        <p:spPr>
          <a:xfrm flipV="1">
            <a:off x="2785680" y="3964680"/>
            <a:ext cx="1291320" cy="396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526" name="Line 800"/>
          <p:cNvSpPr/>
          <p:nvPr/>
        </p:nvSpPr>
        <p:spPr>
          <a:xfrm flipV="1">
            <a:off x="7964640" y="5229360"/>
            <a:ext cx="0" cy="4111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カギ線コネクタ 293"/>
          <p:cNvCxnSpPr>
            <a:stCxn id="414" idx="3"/>
          </p:cNvCxnSpPr>
          <p:nvPr/>
        </p:nvCxnSpPr>
        <p:spPr>
          <a:xfrm flipV="1">
            <a:off x="5157720" y="2525040"/>
            <a:ext cx="1883520" cy="1440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28" name="カギ線コネクタ 297"/>
          <p:cNvCxnSpPr>
            <a:stCxn id="414" idx="3"/>
          </p:cNvCxnSpPr>
          <p:nvPr/>
        </p:nvCxnSpPr>
        <p:spPr>
          <a:xfrm flipV="1">
            <a:off x="5157720" y="3101760"/>
            <a:ext cx="1883520" cy="86400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29" name="カギ線コネクタ 300"/>
          <p:cNvCxnSpPr>
            <a:stCxn id="414" idx="3"/>
          </p:cNvCxnSpPr>
          <p:nvPr/>
        </p:nvCxnSpPr>
        <p:spPr>
          <a:xfrm flipV="1">
            <a:off x="5157720" y="3677760"/>
            <a:ext cx="1883520" cy="28800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30" name="カギ線コネクタ 303"/>
          <p:cNvCxnSpPr>
            <a:stCxn id="414" idx="3"/>
          </p:cNvCxnSpPr>
          <p:nvPr/>
        </p:nvCxnSpPr>
        <p:spPr>
          <a:xfrm>
            <a:off x="5157720" y="3965040"/>
            <a:ext cx="1883520" cy="28944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31" name="カギ線コネクタ 306"/>
          <p:cNvCxnSpPr>
            <a:stCxn id="414" idx="3"/>
          </p:cNvCxnSpPr>
          <p:nvPr/>
        </p:nvCxnSpPr>
        <p:spPr>
          <a:xfrm>
            <a:off x="5157720" y="3965040"/>
            <a:ext cx="1883520" cy="79308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532" name="Picture 2" descr="C:\Users\nakao\Desktop\案件\素材集\7イラスト・写真\イラスト\パソコン\OA機器\computer02.jpg"/>
          <p:cNvPicPr/>
          <p:nvPr/>
        </p:nvPicPr>
        <p:blipFill>
          <a:blip r:embed="rId10"/>
          <a:stretch/>
        </p:blipFill>
        <p:spPr>
          <a:xfrm>
            <a:off x="522360" y="5238720"/>
            <a:ext cx="374400" cy="493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C:\Users\nakao\Desktop\案件\素材集\7イラスト・写真\イラスト\パソコン\OA機器\computer02.jpg"/>
          <p:cNvPicPr/>
          <p:nvPr/>
        </p:nvPicPr>
        <p:blipFill>
          <a:blip r:embed="rId11"/>
          <a:stretch/>
        </p:blipFill>
        <p:spPr>
          <a:xfrm>
            <a:off x="547560" y="3871800"/>
            <a:ext cx="374760" cy="493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C:\Users\nakao\Desktop\案件\素材集\7イラスト・写真\イラスト\パソコン\OA機器\computer02.jpg"/>
          <p:cNvPicPr/>
          <p:nvPr/>
        </p:nvPicPr>
        <p:blipFill>
          <a:blip r:embed="rId12"/>
          <a:stretch/>
        </p:blipFill>
        <p:spPr>
          <a:xfrm>
            <a:off x="573120" y="2405160"/>
            <a:ext cx="374760" cy="493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92" descr="詳細を表示"/>
          <p:cNvPicPr/>
          <p:nvPr/>
        </p:nvPicPr>
        <p:blipFill>
          <a:blip r:embed="rId13"/>
          <a:stretch/>
        </p:blipFill>
        <p:spPr>
          <a:xfrm>
            <a:off x="1930320" y="3292560"/>
            <a:ext cx="833400" cy="73476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282"/>
          <p:cNvSpPr/>
          <p:nvPr/>
        </p:nvSpPr>
        <p:spPr>
          <a:xfrm rot="4462800">
            <a:off x="4260600" y="3605040"/>
            <a:ext cx="577800" cy="79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3" descr="C:\Users\nakao\Desktop\案件\素材集\7イラスト・写真\イラスト\パソコン\OA機器\computer11.jpg"/>
          <p:cNvPicPr/>
          <p:nvPr/>
        </p:nvPicPr>
        <p:blipFill>
          <a:blip r:embed="rId14"/>
          <a:stretch/>
        </p:blipFill>
        <p:spPr>
          <a:xfrm>
            <a:off x="4149720" y="3067200"/>
            <a:ext cx="512640" cy="4125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49"/>
          <p:cNvSpPr/>
          <p:nvPr/>
        </p:nvSpPr>
        <p:spPr>
          <a:xfrm>
            <a:off x="4149720" y="2492280"/>
            <a:ext cx="9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 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66"/>
          <p:cNvSpPr/>
          <p:nvPr/>
        </p:nvSpPr>
        <p:spPr>
          <a:xfrm rot="10800000">
            <a:off x="3206520" y="3643200"/>
            <a:ext cx="3934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67"/>
          <p:cNvSpPr/>
          <p:nvPr/>
        </p:nvSpPr>
        <p:spPr>
          <a:xfrm rot="10800000">
            <a:off x="5730480" y="3644640"/>
            <a:ext cx="3934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268"/>
          <p:cNvSpPr/>
          <p:nvPr/>
        </p:nvSpPr>
        <p:spPr>
          <a:xfrm rot="10800000">
            <a:off x="8581680" y="2995200"/>
            <a:ext cx="39348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 user (view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269"/>
          <p:cNvSpPr/>
          <p:nvPr/>
        </p:nvSpPr>
        <p:spPr>
          <a:xfrm>
            <a:off x="4503600" y="4292640"/>
            <a:ext cx="1519200" cy="2887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367"/>
          <p:cNvSpPr/>
          <p:nvPr/>
        </p:nvSpPr>
        <p:spPr>
          <a:xfrm>
            <a:off x="292572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367"/>
          <p:cNvSpPr/>
          <p:nvPr/>
        </p:nvSpPr>
        <p:spPr>
          <a:xfrm>
            <a:off x="386244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367"/>
          <p:cNvSpPr/>
          <p:nvPr/>
        </p:nvSpPr>
        <p:spPr>
          <a:xfrm>
            <a:off x="523080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367"/>
          <p:cNvSpPr/>
          <p:nvPr/>
        </p:nvSpPr>
        <p:spPr>
          <a:xfrm>
            <a:off x="688644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ey fun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E860BFF-CC91-4942-B4E9-08D6F2CFF754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5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グループ化 525"/>
          <p:cNvGrpSpPr/>
          <p:nvPr/>
        </p:nvGrpSpPr>
        <p:grpSpPr>
          <a:xfrm>
            <a:off x="324000" y="4788000"/>
            <a:ext cx="8208720" cy="1590480"/>
            <a:chOff x="324000" y="4788000"/>
            <a:chExt cx="8208720" cy="1590480"/>
          </a:xfrm>
        </p:grpSpPr>
        <p:sp>
          <p:nvSpPr>
            <p:cNvPr id="552" name="Text Box 806"/>
            <p:cNvSpPr/>
            <p:nvPr/>
          </p:nvSpPr>
          <p:spPr>
            <a:xfrm>
              <a:off x="324000" y="5373720"/>
              <a:ext cx="4248000" cy="438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mmon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809"/>
            <p:cNvSpPr/>
            <p:nvPr/>
          </p:nvSpPr>
          <p:spPr>
            <a:xfrm>
              <a:off x="7020000" y="4797720"/>
              <a:ext cx="1512720" cy="445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0" bIns="10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ternal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811"/>
            <p:cNvSpPr/>
            <p:nvPr/>
          </p:nvSpPr>
          <p:spPr>
            <a:xfrm>
              <a:off x="324000" y="4788000"/>
              <a:ext cx="6624720" cy="438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Real-time information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812"/>
            <p:cNvSpPr/>
            <p:nvPr/>
          </p:nvSpPr>
          <p:spPr>
            <a:xfrm>
              <a:off x="333360" y="5940360"/>
              <a:ext cx="8199360" cy="438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niform 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809"/>
            <p:cNvSpPr/>
            <p:nvPr/>
          </p:nvSpPr>
          <p:spPr>
            <a:xfrm>
              <a:off x="4643640" y="5373720"/>
              <a:ext cx="3889080" cy="43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Multi-de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AutoShape 9"/>
          <p:cNvSpPr/>
          <p:nvPr/>
        </p:nvSpPr>
        <p:spPr>
          <a:xfrm>
            <a:off x="7031160" y="3913200"/>
            <a:ext cx="1366560" cy="792000"/>
          </a:xfrm>
          <a:prstGeom prst="roundRect">
            <a:avLst>
              <a:gd name="adj" fmla="val 3310"/>
            </a:avLst>
          </a:prstGeom>
          <a:solidFill>
            <a:srgbClr val="ffffff"/>
          </a:solidFill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29"/>
          <p:cNvSpPr/>
          <p:nvPr/>
        </p:nvSpPr>
        <p:spPr>
          <a:xfrm>
            <a:off x="7699320" y="3005280"/>
            <a:ext cx="120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vie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30"/>
          <p:cNvSpPr/>
          <p:nvPr/>
        </p:nvSpPr>
        <p:spPr>
          <a:xfrm>
            <a:off x="7701120" y="1844640"/>
            <a:ext cx="101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rt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32"/>
          <p:cNvSpPr/>
          <p:nvPr/>
        </p:nvSpPr>
        <p:spPr>
          <a:xfrm>
            <a:off x="7719840" y="2421000"/>
            <a:ext cx="10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book 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67"/>
          <p:cNvSpPr/>
          <p:nvPr/>
        </p:nvSpPr>
        <p:spPr>
          <a:xfrm>
            <a:off x="1440000" y="7635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29" descr="j0432517[1]"/>
          <p:cNvPicPr/>
          <p:nvPr/>
        </p:nvPicPr>
        <p:blipFill>
          <a:blip r:embed="rId1"/>
          <a:stretch/>
        </p:blipFill>
        <p:spPr>
          <a:xfrm flipH="1">
            <a:off x="7031160" y="1330200"/>
            <a:ext cx="588960" cy="45108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134"/>
          <p:cNvSpPr/>
          <p:nvPr/>
        </p:nvSpPr>
        <p:spPr>
          <a:xfrm>
            <a:off x="7702200" y="13921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266"/>
          <p:cNvGrpSpPr/>
          <p:nvPr/>
        </p:nvGrpSpPr>
        <p:grpSpPr>
          <a:xfrm>
            <a:off x="7054920" y="782640"/>
            <a:ext cx="523800" cy="339840"/>
            <a:chOff x="7054920" y="782640"/>
            <a:chExt cx="523800" cy="339840"/>
          </a:xfrm>
        </p:grpSpPr>
        <p:sp>
          <p:nvSpPr>
            <p:cNvPr id="565" name="Freeform 267"/>
            <p:cNvSpPr/>
            <p:nvPr/>
          </p:nvSpPr>
          <p:spPr>
            <a:xfrm>
              <a:off x="7054920" y="782640"/>
              <a:ext cx="523800" cy="3398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68"/>
            <p:cNvSpPr/>
            <p:nvPr/>
          </p:nvSpPr>
          <p:spPr>
            <a:xfrm>
              <a:off x="7054920" y="782640"/>
              <a:ext cx="294480" cy="2804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0440"/>
                <a:gd name="textAreaBottom" fmla="*/ 280440 h 28044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69"/>
            <p:cNvSpPr/>
            <p:nvPr/>
          </p:nvSpPr>
          <p:spPr>
            <a:xfrm>
              <a:off x="7054920" y="793080"/>
              <a:ext cx="300240" cy="2772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70"/>
            <p:cNvSpPr/>
            <p:nvPr/>
          </p:nvSpPr>
          <p:spPr>
            <a:xfrm>
              <a:off x="7054920" y="793080"/>
              <a:ext cx="307080" cy="28332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271"/>
            <p:cNvSpPr/>
            <p:nvPr/>
          </p:nvSpPr>
          <p:spPr>
            <a:xfrm>
              <a:off x="7054920" y="793080"/>
              <a:ext cx="313920" cy="28944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272"/>
            <p:cNvSpPr/>
            <p:nvPr/>
          </p:nvSpPr>
          <p:spPr>
            <a:xfrm>
              <a:off x="7054920" y="793800"/>
              <a:ext cx="320400" cy="2948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273"/>
            <p:cNvSpPr/>
            <p:nvPr/>
          </p:nvSpPr>
          <p:spPr>
            <a:xfrm>
              <a:off x="7054920" y="793800"/>
              <a:ext cx="327240" cy="30096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274"/>
            <p:cNvSpPr/>
            <p:nvPr/>
          </p:nvSpPr>
          <p:spPr>
            <a:xfrm>
              <a:off x="7054920" y="793800"/>
              <a:ext cx="334080" cy="3074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75"/>
            <p:cNvSpPr/>
            <p:nvPr/>
          </p:nvSpPr>
          <p:spPr>
            <a:xfrm>
              <a:off x="7054920" y="794880"/>
              <a:ext cx="340920" cy="31248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76"/>
            <p:cNvSpPr/>
            <p:nvPr/>
          </p:nvSpPr>
          <p:spPr>
            <a:xfrm>
              <a:off x="7054920" y="794880"/>
              <a:ext cx="346680" cy="318600"/>
            </a:xfrm>
            <a:custGeom>
              <a:avLst/>
              <a:gdLst>
                <a:gd name="textAreaLeft" fmla="*/ 0 w 346680"/>
                <a:gd name="textAreaRight" fmla="*/ 346680 w 34668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277"/>
            <p:cNvSpPr/>
            <p:nvPr/>
          </p:nvSpPr>
          <p:spPr>
            <a:xfrm>
              <a:off x="7054920" y="794880"/>
              <a:ext cx="361080" cy="32760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278"/>
            <p:cNvSpPr/>
            <p:nvPr/>
          </p:nvSpPr>
          <p:spPr>
            <a:xfrm>
              <a:off x="7059600" y="79560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279"/>
            <p:cNvSpPr/>
            <p:nvPr/>
          </p:nvSpPr>
          <p:spPr>
            <a:xfrm>
              <a:off x="7067160" y="79560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280"/>
            <p:cNvSpPr/>
            <p:nvPr/>
          </p:nvSpPr>
          <p:spPr>
            <a:xfrm>
              <a:off x="7075080" y="795600"/>
              <a:ext cx="362160" cy="3265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281"/>
            <p:cNvSpPr/>
            <p:nvPr/>
          </p:nvSpPr>
          <p:spPr>
            <a:xfrm>
              <a:off x="7083720" y="796680"/>
              <a:ext cx="361080" cy="325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282"/>
            <p:cNvSpPr/>
            <p:nvPr/>
          </p:nvSpPr>
          <p:spPr>
            <a:xfrm>
              <a:off x="7091280" y="796680"/>
              <a:ext cx="360000" cy="325080"/>
            </a:xfrm>
            <a:custGeom>
              <a:avLst/>
              <a:gdLst>
                <a:gd name="textAreaLeft" fmla="*/ 0 w 360000"/>
                <a:gd name="textAreaRight" fmla="*/ 360000 w 3600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283"/>
            <p:cNvSpPr/>
            <p:nvPr/>
          </p:nvSpPr>
          <p:spPr>
            <a:xfrm>
              <a:off x="7098840" y="796680"/>
              <a:ext cx="360360" cy="325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284"/>
            <p:cNvSpPr/>
            <p:nvPr/>
          </p:nvSpPr>
          <p:spPr>
            <a:xfrm>
              <a:off x="7106760" y="796680"/>
              <a:ext cx="359280" cy="32400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285"/>
            <p:cNvSpPr/>
            <p:nvPr/>
          </p:nvSpPr>
          <p:spPr>
            <a:xfrm>
              <a:off x="7114320" y="797400"/>
              <a:ext cx="359280" cy="32328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286"/>
            <p:cNvSpPr/>
            <p:nvPr/>
          </p:nvSpPr>
          <p:spPr>
            <a:xfrm>
              <a:off x="7122240" y="797400"/>
              <a:ext cx="456480" cy="3232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287"/>
            <p:cNvSpPr/>
            <p:nvPr/>
          </p:nvSpPr>
          <p:spPr>
            <a:xfrm>
              <a:off x="7564320" y="810720"/>
              <a:ext cx="8280" cy="28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288"/>
            <p:cNvSpPr/>
            <p:nvPr/>
          </p:nvSpPr>
          <p:spPr>
            <a:xfrm>
              <a:off x="7070040" y="794880"/>
              <a:ext cx="498960" cy="31536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289"/>
            <p:cNvSpPr/>
            <p:nvPr/>
          </p:nvSpPr>
          <p:spPr>
            <a:xfrm>
              <a:off x="7054920" y="782640"/>
              <a:ext cx="3600" cy="137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290"/>
            <p:cNvSpPr/>
            <p:nvPr/>
          </p:nvSpPr>
          <p:spPr>
            <a:xfrm>
              <a:off x="7074000" y="798480"/>
              <a:ext cx="492120" cy="3081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08160"/>
                <a:gd name="textAreaBottom" fmla="*/ 308160 h 30816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291"/>
            <p:cNvSpPr/>
            <p:nvPr/>
          </p:nvSpPr>
          <p:spPr>
            <a:xfrm>
              <a:off x="7074000" y="798480"/>
              <a:ext cx="197280" cy="1861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292"/>
            <p:cNvSpPr/>
            <p:nvPr/>
          </p:nvSpPr>
          <p:spPr>
            <a:xfrm>
              <a:off x="7075080" y="804600"/>
              <a:ext cx="208080" cy="190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293"/>
            <p:cNvSpPr/>
            <p:nvPr/>
          </p:nvSpPr>
          <p:spPr>
            <a:xfrm>
              <a:off x="7075080" y="805320"/>
              <a:ext cx="218520" cy="19908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294"/>
            <p:cNvSpPr/>
            <p:nvPr/>
          </p:nvSpPr>
          <p:spPr>
            <a:xfrm>
              <a:off x="7075080" y="805320"/>
              <a:ext cx="228960" cy="2098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295"/>
            <p:cNvSpPr/>
            <p:nvPr/>
          </p:nvSpPr>
          <p:spPr>
            <a:xfrm>
              <a:off x="7075080" y="805320"/>
              <a:ext cx="239760" cy="219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296"/>
            <p:cNvSpPr/>
            <p:nvPr/>
          </p:nvSpPr>
          <p:spPr>
            <a:xfrm>
              <a:off x="7075080" y="806400"/>
              <a:ext cx="250200" cy="2282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297"/>
            <p:cNvSpPr/>
            <p:nvPr/>
          </p:nvSpPr>
          <p:spPr>
            <a:xfrm>
              <a:off x="7075080" y="806400"/>
              <a:ext cx="261000" cy="23904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298"/>
            <p:cNvSpPr/>
            <p:nvPr/>
          </p:nvSpPr>
          <p:spPr>
            <a:xfrm>
              <a:off x="7075080" y="806400"/>
              <a:ext cx="271440" cy="2487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299"/>
            <p:cNvSpPr/>
            <p:nvPr/>
          </p:nvSpPr>
          <p:spPr>
            <a:xfrm>
              <a:off x="7075080" y="807120"/>
              <a:ext cx="282240" cy="2574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300"/>
            <p:cNvSpPr/>
            <p:nvPr/>
          </p:nvSpPr>
          <p:spPr>
            <a:xfrm>
              <a:off x="7075080" y="807120"/>
              <a:ext cx="292680" cy="26820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Freeform 301"/>
            <p:cNvSpPr/>
            <p:nvPr/>
          </p:nvSpPr>
          <p:spPr>
            <a:xfrm>
              <a:off x="7075080" y="80820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302"/>
            <p:cNvSpPr/>
            <p:nvPr/>
          </p:nvSpPr>
          <p:spPr>
            <a:xfrm>
              <a:off x="7075080" y="808200"/>
              <a:ext cx="313920" cy="2869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Freeform 303"/>
            <p:cNvSpPr/>
            <p:nvPr/>
          </p:nvSpPr>
          <p:spPr>
            <a:xfrm>
              <a:off x="7075080" y="808200"/>
              <a:ext cx="324360" cy="297360"/>
            </a:xfrm>
            <a:custGeom>
              <a:avLst/>
              <a:gdLst>
                <a:gd name="textAreaLeft" fmla="*/ 0 w 324360"/>
                <a:gd name="textAreaRight" fmla="*/ 324360 w 3243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Freeform 304"/>
            <p:cNvSpPr/>
            <p:nvPr/>
          </p:nvSpPr>
          <p:spPr>
            <a:xfrm>
              <a:off x="7075080" y="808920"/>
              <a:ext cx="335160" cy="2973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305"/>
            <p:cNvSpPr/>
            <p:nvPr/>
          </p:nvSpPr>
          <p:spPr>
            <a:xfrm>
              <a:off x="7085520" y="808920"/>
              <a:ext cx="335160" cy="2966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6640"/>
                <a:gd name="textAreaBottom" fmla="*/ 296640 h 296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306"/>
            <p:cNvSpPr/>
            <p:nvPr/>
          </p:nvSpPr>
          <p:spPr>
            <a:xfrm>
              <a:off x="7097040" y="81000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Freeform 307"/>
            <p:cNvSpPr/>
            <p:nvPr/>
          </p:nvSpPr>
          <p:spPr>
            <a:xfrm>
              <a:off x="7107840" y="81000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Freeform 308"/>
            <p:cNvSpPr/>
            <p:nvPr/>
          </p:nvSpPr>
          <p:spPr>
            <a:xfrm>
              <a:off x="7119360" y="810000"/>
              <a:ext cx="334080" cy="2948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309"/>
            <p:cNvSpPr/>
            <p:nvPr/>
          </p:nvSpPr>
          <p:spPr>
            <a:xfrm>
              <a:off x="7130880" y="81072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310"/>
            <p:cNvSpPr/>
            <p:nvPr/>
          </p:nvSpPr>
          <p:spPr>
            <a:xfrm>
              <a:off x="7142400" y="810720"/>
              <a:ext cx="332280" cy="2930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311"/>
            <p:cNvSpPr/>
            <p:nvPr/>
          </p:nvSpPr>
          <p:spPr>
            <a:xfrm>
              <a:off x="7153920" y="810720"/>
              <a:ext cx="331200" cy="2930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312"/>
            <p:cNvSpPr/>
            <p:nvPr/>
          </p:nvSpPr>
          <p:spPr>
            <a:xfrm>
              <a:off x="7165440" y="811800"/>
              <a:ext cx="342000" cy="29124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313"/>
            <p:cNvSpPr/>
            <p:nvPr/>
          </p:nvSpPr>
          <p:spPr>
            <a:xfrm>
              <a:off x="7188480" y="812520"/>
              <a:ext cx="329400" cy="2901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314"/>
            <p:cNvSpPr/>
            <p:nvPr/>
          </p:nvSpPr>
          <p:spPr>
            <a:xfrm>
              <a:off x="7201080" y="81252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315"/>
            <p:cNvSpPr/>
            <p:nvPr/>
          </p:nvSpPr>
          <p:spPr>
            <a:xfrm>
              <a:off x="7212600" y="81252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316"/>
            <p:cNvSpPr/>
            <p:nvPr/>
          </p:nvSpPr>
          <p:spPr>
            <a:xfrm>
              <a:off x="7225200" y="813240"/>
              <a:ext cx="327240" cy="28764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317"/>
            <p:cNvSpPr/>
            <p:nvPr/>
          </p:nvSpPr>
          <p:spPr>
            <a:xfrm>
              <a:off x="7236720" y="813240"/>
              <a:ext cx="326520" cy="2876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318"/>
            <p:cNvSpPr/>
            <p:nvPr/>
          </p:nvSpPr>
          <p:spPr>
            <a:xfrm>
              <a:off x="7249320" y="814320"/>
              <a:ext cx="315720" cy="2858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319"/>
            <p:cNvSpPr/>
            <p:nvPr/>
          </p:nvSpPr>
          <p:spPr>
            <a:xfrm>
              <a:off x="7261920" y="82296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320"/>
            <p:cNvSpPr/>
            <p:nvPr/>
          </p:nvSpPr>
          <p:spPr>
            <a:xfrm>
              <a:off x="7273440" y="833760"/>
              <a:ext cx="291600" cy="26640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266400"/>
                <a:gd name="textAreaBottom" fmla="*/ 266400 h 2664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321"/>
            <p:cNvSpPr/>
            <p:nvPr/>
          </p:nvSpPr>
          <p:spPr>
            <a:xfrm>
              <a:off x="7286040" y="844560"/>
              <a:ext cx="279360" cy="2548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322"/>
            <p:cNvSpPr/>
            <p:nvPr/>
          </p:nvSpPr>
          <p:spPr>
            <a:xfrm>
              <a:off x="7297560" y="855000"/>
              <a:ext cx="267840" cy="244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Freeform 323"/>
            <p:cNvSpPr/>
            <p:nvPr/>
          </p:nvSpPr>
          <p:spPr>
            <a:xfrm>
              <a:off x="7310160" y="865800"/>
              <a:ext cx="255240" cy="2329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324"/>
            <p:cNvSpPr/>
            <p:nvPr/>
          </p:nvSpPr>
          <p:spPr>
            <a:xfrm>
              <a:off x="7321680" y="876240"/>
              <a:ext cx="243720" cy="222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325"/>
            <p:cNvSpPr/>
            <p:nvPr/>
          </p:nvSpPr>
          <p:spPr>
            <a:xfrm>
              <a:off x="7333920" y="887040"/>
              <a:ext cx="231120" cy="2106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326"/>
            <p:cNvSpPr/>
            <p:nvPr/>
          </p:nvSpPr>
          <p:spPr>
            <a:xfrm>
              <a:off x="7345800" y="897480"/>
              <a:ext cx="219600" cy="200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327"/>
            <p:cNvSpPr/>
            <p:nvPr/>
          </p:nvSpPr>
          <p:spPr>
            <a:xfrm>
              <a:off x="7358400" y="908280"/>
              <a:ext cx="207000" cy="1893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328"/>
            <p:cNvSpPr/>
            <p:nvPr/>
          </p:nvSpPr>
          <p:spPr>
            <a:xfrm>
              <a:off x="7370640" y="918720"/>
              <a:ext cx="194400" cy="1778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329"/>
            <p:cNvSpPr/>
            <p:nvPr/>
          </p:nvSpPr>
          <p:spPr>
            <a:xfrm>
              <a:off x="7382160" y="929520"/>
              <a:ext cx="182880" cy="1674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30"/>
            <p:cNvSpPr/>
            <p:nvPr/>
          </p:nvSpPr>
          <p:spPr>
            <a:xfrm>
              <a:off x="7394760" y="940320"/>
              <a:ext cx="170280" cy="1558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31"/>
            <p:cNvSpPr/>
            <p:nvPr/>
          </p:nvSpPr>
          <p:spPr>
            <a:xfrm>
              <a:off x="7406280" y="950760"/>
              <a:ext cx="158760" cy="145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332"/>
            <p:cNvSpPr/>
            <p:nvPr/>
          </p:nvSpPr>
          <p:spPr>
            <a:xfrm>
              <a:off x="7418880" y="961200"/>
              <a:ext cx="146160" cy="1335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333"/>
            <p:cNvSpPr/>
            <p:nvPr/>
          </p:nvSpPr>
          <p:spPr>
            <a:xfrm>
              <a:off x="7430400" y="972000"/>
              <a:ext cx="135720" cy="1231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334"/>
            <p:cNvSpPr/>
            <p:nvPr/>
          </p:nvSpPr>
          <p:spPr>
            <a:xfrm>
              <a:off x="7085520" y="810000"/>
              <a:ext cx="472680" cy="28512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335"/>
            <p:cNvSpPr/>
            <p:nvPr/>
          </p:nvSpPr>
          <p:spPr>
            <a:xfrm>
              <a:off x="7085520" y="822960"/>
              <a:ext cx="472680" cy="2718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336"/>
            <p:cNvSpPr/>
            <p:nvPr/>
          </p:nvSpPr>
          <p:spPr>
            <a:xfrm>
              <a:off x="7072920" y="1091520"/>
              <a:ext cx="495000" cy="183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337"/>
            <p:cNvSpPr/>
            <p:nvPr/>
          </p:nvSpPr>
          <p:spPr>
            <a:xfrm>
              <a:off x="7070040" y="1089720"/>
              <a:ext cx="501840" cy="219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338"/>
            <p:cNvSpPr/>
            <p:nvPr/>
          </p:nvSpPr>
          <p:spPr>
            <a:xfrm>
              <a:off x="7069320" y="793080"/>
              <a:ext cx="5760" cy="318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39"/>
            <p:cNvSpPr/>
            <p:nvPr/>
          </p:nvSpPr>
          <p:spPr>
            <a:xfrm>
              <a:off x="7092360" y="818640"/>
              <a:ext cx="402480" cy="20520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40"/>
            <p:cNvSpPr/>
            <p:nvPr/>
          </p:nvSpPr>
          <p:spPr>
            <a:xfrm>
              <a:off x="7096320" y="819720"/>
              <a:ext cx="392040" cy="2001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41"/>
            <p:cNvSpPr/>
            <p:nvPr/>
          </p:nvSpPr>
          <p:spPr>
            <a:xfrm>
              <a:off x="7099920" y="821520"/>
              <a:ext cx="381240" cy="19368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42"/>
            <p:cNvSpPr/>
            <p:nvPr/>
          </p:nvSpPr>
          <p:spPr>
            <a:xfrm>
              <a:off x="7103880" y="822240"/>
              <a:ext cx="370800" cy="188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3"/>
            <p:cNvSpPr/>
            <p:nvPr/>
          </p:nvSpPr>
          <p:spPr>
            <a:xfrm>
              <a:off x="7107840" y="824040"/>
              <a:ext cx="361080" cy="18216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44"/>
            <p:cNvSpPr/>
            <p:nvPr/>
          </p:nvSpPr>
          <p:spPr>
            <a:xfrm>
              <a:off x="7111440" y="825120"/>
              <a:ext cx="350640" cy="1771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45"/>
            <p:cNvSpPr/>
            <p:nvPr/>
          </p:nvSpPr>
          <p:spPr>
            <a:xfrm>
              <a:off x="7115400" y="826920"/>
              <a:ext cx="339840" cy="17064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46"/>
            <p:cNvSpPr/>
            <p:nvPr/>
          </p:nvSpPr>
          <p:spPr>
            <a:xfrm>
              <a:off x="7119360" y="827640"/>
              <a:ext cx="329400" cy="16560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47"/>
            <p:cNvSpPr/>
            <p:nvPr/>
          </p:nvSpPr>
          <p:spPr>
            <a:xfrm>
              <a:off x="7124040" y="828360"/>
              <a:ext cx="318600" cy="1602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348"/>
            <p:cNvSpPr/>
            <p:nvPr/>
          </p:nvSpPr>
          <p:spPr>
            <a:xfrm>
              <a:off x="7128000" y="830160"/>
              <a:ext cx="308160" cy="15408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349"/>
            <p:cNvSpPr/>
            <p:nvPr/>
          </p:nvSpPr>
          <p:spPr>
            <a:xfrm>
              <a:off x="7131600" y="831240"/>
              <a:ext cx="297360" cy="1486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350"/>
            <p:cNvSpPr/>
            <p:nvPr/>
          </p:nvSpPr>
          <p:spPr>
            <a:xfrm>
              <a:off x="7135560" y="833040"/>
              <a:ext cx="286920" cy="14256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351"/>
            <p:cNvSpPr/>
            <p:nvPr/>
          </p:nvSpPr>
          <p:spPr>
            <a:xfrm>
              <a:off x="7139520" y="833760"/>
              <a:ext cx="276480" cy="1371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352"/>
            <p:cNvSpPr/>
            <p:nvPr/>
          </p:nvSpPr>
          <p:spPr>
            <a:xfrm>
              <a:off x="7143480" y="835560"/>
              <a:ext cx="266760" cy="1310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353"/>
            <p:cNvSpPr/>
            <p:nvPr/>
          </p:nvSpPr>
          <p:spPr>
            <a:xfrm>
              <a:off x="7147080" y="836640"/>
              <a:ext cx="255960" cy="1263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354"/>
            <p:cNvSpPr/>
            <p:nvPr/>
          </p:nvSpPr>
          <p:spPr>
            <a:xfrm>
              <a:off x="7151040" y="837360"/>
              <a:ext cx="245520" cy="121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355"/>
            <p:cNvSpPr/>
            <p:nvPr/>
          </p:nvSpPr>
          <p:spPr>
            <a:xfrm>
              <a:off x="7155000" y="839160"/>
              <a:ext cx="235080" cy="1152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356"/>
            <p:cNvSpPr/>
            <p:nvPr/>
          </p:nvSpPr>
          <p:spPr>
            <a:xfrm>
              <a:off x="7158600" y="839880"/>
              <a:ext cx="225360" cy="109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357"/>
            <p:cNvSpPr/>
            <p:nvPr/>
          </p:nvSpPr>
          <p:spPr>
            <a:xfrm>
              <a:off x="7162560" y="841680"/>
              <a:ext cx="214560" cy="103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358"/>
            <p:cNvSpPr/>
            <p:nvPr/>
          </p:nvSpPr>
          <p:spPr>
            <a:xfrm>
              <a:off x="7166520" y="842760"/>
              <a:ext cx="204120" cy="982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359"/>
            <p:cNvSpPr/>
            <p:nvPr/>
          </p:nvSpPr>
          <p:spPr>
            <a:xfrm>
              <a:off x="7171200" y="844560"/>
              <a:ext cx="192600" cy="918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60"/>
            <p:cNvSpPr/>
            <p:nvPr/>
          </p:nvSpPr>
          <p:spPr>
            <a:xfrm>
              <a:off x="7175160" y="845280"/>
              <a:ext cx="181800" cy="867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361"/>
            <p:cNvSpPr/>
            <p:nvPr/>
          </p:nvSpPr>
          <p:spPr>
            <a:xfrm>
              <a:off x="7179120" y="846360"/>
              <a:ext cx="172440" cy="81360"/>
            </a:xfrm>
            <a:custGeom>
              <a:avLst/>
              <a:gdLst>
                <a:gd name="textAreaLeft" fmla="*/ 0 w 172440"/>
                <a:gd name="textAreaRight" fmla="*/ 172440 w 1724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362"/>
            <p:cNvSpPr/>
            <p:nvPr/>
          </p:nvSpPr>
          <p:spPr>
            <a:xfrm>
              <a:off x="7182720" y="847800"/>
              <a:ext cx="161640" cy="7524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1" name="Picture 20" descr="DVD"/>
          <p:cNvPicPr/>
          <p:nvPr/>
        </p:nvPicPr>
        <p:blipFill>
          <a:blip r:embed="rId2"/>
          <a:stretch/>
        </p:blipFill>
        <p:spPr>
          <a:xfrm>
            <a:off x="7246800" y="1042920"/>
            <a:ext cx="540000" cy="168480"/>
          </a:xfrm>
          <a:prstGeom prst="rect">
            <a:avLst/>
          </a:prstGeom>
          <a:ln w="0">
            <a:noFill/>
          </a:ln>
        </p:spPr>
      </p:pic>
      <p:sp>
        <p:nvSpPr>
          <p:cNvPr id="662" name="AutoShape 8"/>
          <p:cNvSpPr/>
          <p:nvPr/>
        </p:nvSpPr>
        <p:spPr>
          <a:xfrm>
            <a:off x="246240" y="763560"/>
            <a:ext cx="947520" cy="1295280"/>
          </a:xfrm>
          <a:custGeom>
            <a:avLst/>
            <a:gdLst>
              <a:gd name="textAreaLeft" fmla="*/ 21240 w 947520"/>
              <a:gd name="textAreaRight" fmla="*/ 926280 w 947520"/>
              <a:gd name="textAreaTop" fmla="*/ 21240 h 1295280"/>
              <a:gd name="textAreaBottom" fmla="*/ 1274040 h 1295280"/>
            </a:gdLst>
            <a:ahLst/>
            <a:rect l="textAreaLeft" t="textAreaTop" r="textAreaRight" b="textAreaBottom"/>
            <a:pathLst>
              <a:path w="21600" h="29525">
                <a:moveTo>
                  <a:pt x="1672" y="0"/>
                </a:moveTo>
                <a:arcTo wR="1672" hR="1672" stAng="16200000" swAng="-5400000"/>
                <a:lnTo>
                  <a:pt x="0" y="27853"/>
                </a:lnTo>
                <a:arcTo wR="1672" hR="1672" stAng="10800000" swAng="-5400000"/>
                <a:lnTo>
                  <a:pt x="19928" y="29525"/>
                </a:lnTo>
                <a:arcTo wR="1672" hR="1672" stAng="5400000" swAng="-5400000"/>
                <a:lnTo>
                  <a:pt x="21600" y="1672"/>
                </a:lnTo>
                <a:arcTo wR="1672" hR="167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383"/>
          <p:cNvSpPr/>
          <p:nvPr/>
        </p:nvSpPr>
        <p:spPr>
          <a:xfrm>
            <a:off x="189000" y="1278000"/>
            <a:ext cx="113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s delivery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8"/>
          <p:cNvSpPr/>
          <p:nvPr/>
        </p:nvSpPr>
        <p:spPr>
          <a:xfrm>
            <a:off x="246240" y="2205000"/>
            <a:ext cx="947520" cy="62244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8"/>
          <p:cNvSpPr/>
          <p:nvPr/>
        </p:nvSpPr>
        <p:spPr>
          <a:xfrm>
            <a:off x="233280" y="3571920"/>
            <a:ext cx="947880" cy="64908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48"/>
          <p:cNvSpPr/>
          <p:nvPr/>
        </p:nvSpPr>
        <p:spPr>
          <a:xfrm>
            <a:off x="-131400" y="3068640"/>
            <a:ext cx="1095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65"/>
          <p:cNvSpPr/>
          <p:nvPr/>
        </p:nvSpPr>
        <p:spPr>
          <a:xfrm>
            <a:off x="7701120" y="692280"/>
            <a:ext cx="91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B + 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26" descr="j0432596[1]"/>
          <p:cNvPicPr/>
          <p:nvPr/>
        </p:nvPicPr>
        <p:blipFill>
          <a:blip r:embed="rId3"/>
          <a:stretch/>
        </p:blipFill>
        <p:spPr>
          <a:xfrm>
            <a:off x="7102440" y="2492280"/>
            <a:ext cx="474840" cy="4525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7"/>
          <p:cNvSpPr/>
          <p:nvPr/>
        </p:nvSpPr>
        <p:spPr>
          <a:xfrm>
            <a:off x="1758960" y="1517760"/>
            <a:ext cx="1027080" cy="1731960"/>
          </a:xfrm>
          <a:custGeom>
            <a:avLst/>
            <a:gdLst>
              <a:gd name="textAreaLeft" fmla="*/ 14400 w 1027080"/>
              <a:gd name="textAreaRight" fmla="*/ 1012680 w 1027080"/>
              <a:gd name="textAreaTop" fmla="*/ 14400 h 1731960"/>
              <a:gd name="textAreaBottom" fmla="*/ 1717560 h 1731960"/>
            </a:gdLst>
            <a:ahLst/>
            <a:rect l="textAreaLeft" t="textAreaTop" r="textAreaRight" b="textAreaBottom"/>
            <a:pathLst>
              <a:path w="21600" h="36419">
                <a:moveTo>
                  <a:pt x="1042" y="0"/>
                </a:moveTo>
                <a:arcTo wR="1042" hR="1042" stAng="16200000" swAng="-5400000"/>
                <a:lnTo>
                  <a:pt x="0" y="35377"/>
                </a:lnTo>
                <a:arcTo wR="1042" hR="1042" stAng="10800000" swAng="-5400000"/>
                <a:lnTo>
                  <a:pt x="20558" y="36419"/>
                </a:lnTo>
                <a:arcTo wR="1042" hR="1042" stAng="5400000" swAng="-5400000"/>
                <a:lnTo>
                  <a:pt x="21600" y="1042"/>
                </a:lnTo>
                <a:arcTo wR="1042" hR="10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83"/>
          <p:cNvSpPr/>
          <p:nvPr/>
        </p:nvSpPr>
        <p:spPr>
          <a:xfrm>
            <a:off x="1701720" y="2421000"/>
            <a:ext cx="116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/contents delive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64"/>
          <p:cNvSpPr/>
          <p:nvPr/>
        </p:nvSpPr>
        <p:spPr>
          <a:xfrm>
            <a:off x="3083040" y="1049400"/>
            <a:ext cx="666720" cy="3127320"/>
          </a:xfrm>
          <a:prstGeom prst="cloudCallout">
            <a:avLst>
              <a:gd name="adj1" fmla="val 33092"/>
              <a:gd name="adj2" fmla="val 31115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4076640" y="866880"/>
            <a:ext cx="1081080" cy="3030480"/>
          </a:xfrm>
          <a:custGeom>
            <a:avLst/>
            <a:gdLst>
              <a:gd name="textAreaLeft" fmla="*/ 10440 w 1081080"/>
              <a:gd name="textAreaRight" fmla="*/ 1070640 w 1081080"/>
              <a:gd name="textAreaTop" fmla="*/ 10440 h 3030480"/>
              <a:gd name="textAreaBottom" fmla="*/ 3020040 h 3030480"/>
            </a:gdLst>
            <a:ahLst/>
            <a:rect l="textAreaLeft" t="textAreaTop" r="textAreaRight" b="textAreaBottom"/>
            <a:pathLst>
              <a:path w="21600" h="60536">
                <a:moveTo>
                  <a:pt x="715" y="0"/>
                </a:moveTo>
                <a:arcTo wR="715" hR="715" stAng="16200000" swAng="-5400000"/>
                <a:lnTo>
                  <a:pt x="0" y="59821"/>
                </a:lnTo>
                <a:arcTo wR="715" hR="715" stAng="10800000" swAng="-5400000"/>
                <a:lnTo>
                  <a:pt x="20885" y="60536"/>
                </a:lnTo>
                <a:arcTo wR="715" hR="715" stAng="5400000" swAng="-5400000"/>
                <a:lnTo>
                  <a:pt x="21600" y="715"/>
                </a:lnTo>
                <a:arcTo wR="715" hR="715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49"/>
          <p:cNvSpPr/>
          <p:nvPr/>
        </p:nvSpPr>
        <p:spPr>
          <a:xfrm>
            <a:off x="4175640" y="2922480"/>
            <a:ext cx="88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Picture 792" descr="詳細を表示"/>
          <p:cNvPicPr/>
          <p:nvPr/>
        </p:nvPicPr>
        <p:blipFill>
          <a:blip r:embed="rId5"/>
          <a:stretch/>
        </p:blipFill>
        <p:spPr>
          <a:xfrm>
            <a:off x="4294080" y="2274840"/>
            <a:ext cx="719280" cy="63504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32"/>
          <p:cNvGrpSpPr/>
          <p:nvPr/>
        </p:nvGrpSpPr>
        <p:grpSpPr>
          <a:xfrm>
            <a:off x="7058160" y="3059280"/>
            <a:ext cx="576000" cy="360360"/>
            <a:chOff x="7058160" y="3059280"/>
            <a:chExt cx="576000" cy="360360"/>
          </a:xfrm>
        </p:grpSpPr>
        <p:sp>
          <p:nvSpPr>
            <p:cNvPr id="676" name="Freeform 33"/>
            <p:cNvSpPr/>
            <p:nvPr/>
          </p:nvSpPr>
          <p:spPr>
            <a:xfrm>
              <a:off x="7058160" y="3059280"/>
              <a:ext cx="576000" cy="3603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34"/>
            <p:cNvSpPr/>
            <p:nvPr/>
          </p:nvSpPr>
          <p:spPr>
            <a:xfrm>
              <a:off x="7058160" y="3059280"/>
              <a:ext cx="324000" cy="2973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35"/>
            <p:cNvSpPr/>
            <p:nvPr/>
          </p:nvSpPr>
          <p:spPr>
            <a:xfrm>
              <a:off x="7058160" y="3070440"/>
              <a:ext cx="330120" cy="293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36"/>
            <p:cNvSpPr/>
            <p:nvPr/>
          </p:nvSpPr>
          <p:spPr>
            <a:xfrm>
              <a:off x="7058160" y="3070440"/>
              <a:ext cx="337680" cy="30024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37"/>
            <p:cNvSpPr/>
            <p:nvPr/>
          </p:nvSpPr>
          <p:spPr>
            <a:xfrm>
              <a:off x="7058160" y="3070440"/>
              <a:ext cx="345240" cy="30708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38"/>
            <p:cNvSpPr/>
            <p:nvPr/>
          </p:nvSpPr>
          <p:spPr>
            <a:xfrm>
              <a:off x="7058160" y="3071160"/>
              <a:ext cx="352440" cy="3124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39"/>
            <p:cNvSpPr/>
            <p:nvPr/>
          </p:nvSpPr>
          <p:spPr>
            <a:xfrm>
              <a:off x="7058160" y="3071160"/>
              <a:ext cx="360000" cy="3193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40"/>
            <p:cNvSpPr/>
            <p:nvPr/>
          </p:nvSpPr>
          <p:spPr>
            <a:xfrm>
              <a:off x="7058160" y="3071160"/>
              <a:ext cx="367560" cy="3258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41"/>
            <p:cNvSpPr/>
            <p:nvPr/>
          </p:nvSpPr>
          <p:spPr>
            <a:xfrm>
              <a:off x="7058160" y="3072240"/>
              <a:ext cx="374760" cy="331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42"/>
            <p:cNvSpPr/>
            <p:nvPr/>
          </p:nvSpPr>
          <p:spPr>
            <a:xfrm>
              <a:off x="7058160" y="3072240"/>
              <a:ext cx="381240" cy="3380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43"/>
            <p:cNvSpPr/>
            <p:nvPr/>
          </p:nvSpPr>
          <p:spPr>
            <a:xfrm>
              <a:off x="7058160" y="30722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44"/>
            <p:cNvSpPr/>
            <p:nvPr/>
          </p:nvSpPr>
          <p:spPr>
            <a:xfrm>
              <a:off x="7063200" y="3073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45"/>
            <p:cNvSpPr/>
            <p:nvPr/>
          </p:nvSpPr>
          <p:spPr>
            <a:xfrm>
              <a:off x="7071840" y="3073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46"/>
            <p:cNvSpPr/>
            <p:nvPr/>
          </p:nvSpPr>
          <p:spPr>
            <a:xfrm>
              <a:off x="7080120" y="3073320"/>
              <a:ext cx="398160" cy="34632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47"/>
            <p:cNvSpPr/>
            <p:nvPr/>
          </p:nvSpPr>
          <p:spPr>
            <a:xfrm>
              <a:off x="7089840" y="3074040"/>
              <a:ext cx="397080" cy="344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48"/>
            <p:cNvSpPr/>
            <p:nvPr/>
          </p:nvSpPr>
          <p:spPr>
            <a:xfrm>
              <a:off x="7098120" y="3074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49"/>
            <p:cNvSpPr/>
            <p:nvPr/>
          </p:nvSpPr>
          <p:spPr>
            <a:xfrm>
              <a:off x="7106760" y="3074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50"/>
            <p:cNvSpPr/>
            <p:nvPr/>
          </p:nvSpPr>
          <p:spPr>
            <a:xfrm>
              <a:off x="7115040" y="3074040"/>
              <a:ext cx="394920" cy="3434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51"/>
            <p:cNvSpPr/>
            <p:nvPr/>
          </p:nvSpPr>
          <p:spPr>
            <a:xfrm>
              <a:off x="7123680" y="3075120"/>
              <a:ext cx="394920" cy="34272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52"/>
            <p:cNvSpPr/>
            <p:nvPr/>
          </p:nvSpPr>
          <p:spPr>
            <a:xfrm>
              <a:off x="7131960" y="3075120"/>
              <a:ext cx="501840" cy="3427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53"/>
            <p:cNvSpPr/>
            <p:nvPr/>
          </p:nvSpPr>
          <p:spPr>
            <a:xfrm>
              <a:off x="7618320" y="3089160"/>
              <a:ext cx="936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54"/>
            <p:cNvSpPr/>
            <p:nvPr/>
          </p:nvSpPr>
          <p:spPr>
            <a:xfrm>
              <a:off x="7075080" y="3072240"/>
              <a:ext cx="548640" cy="334080"/>
            </a:xfrm>
            <a:custGeom>
              <a:avLst/>
              <a:gdLst>
                <a:gd name="textAreaLeft" fmla="*/ 0 w 548640"/>
                <a:gd name="textAreaRight" fmla="*/ 548640 w 54864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55"/>
            <p:cNvSpPr/>
            <p:nvPr/>
          </p:nvSpPr>
          <p:spPr>
            <a:xfrm>
              <a:off x="7058160" y="3059280"/>
              <a:ext cx="3960" cy="145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56"/>
            <p:cNvSpPr/>
            <p:nvPr/>
          </p:nvSpPr>
          <p:spPr>
            <a:xfrm>
              <a:off x="7079040" y="3075840"/>
              <a:ext cx="541080" cy="32688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57"/>
            <p:cNvSpPr/>
            <p:nvPr/>
          </p:nvSpPr>
          <p:spPr>
            <a:xfrm>
              <a:off x="7079040" y="3075840"/>
              <a:ext cx="217080" cy="1972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58"/>
            <p:cNvSpPr/>
            <p:nvPr/>
          </p:nvSpPr>
          <p:spPr>
            <a:xfrm>
              <a:off x="7080120" y="3082680"/>
              <a:ext cx="228600" cy="201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59"/>
            <p:cNvSpPr/>
            <p:nvPr/>
          </p:nvSpPr>
          <p:spPr>
            <a:xfrm>
              <a:off x="7080120" y="3083400"/>
              <a:ext cx="240480" cy="21096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60"/>
            <p:cNvSpPr/>
            <p:nvPr/>
          </p:nvSpPr>
          <p:spPr>
            <a:xfrm>
              <a:off x="7080120" y="3083400"/>
              <a:ext cx="252000" cy="222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61"/>
            <p:cNvSpPr/>
            <p:nvPr/>
          </p:nvSpPr>
          <p:spPr>
            <a:xfrm>
              <a:off x="7080120" y="3083400"/>
              <a:ext cx="263520" cy="2325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62"/>
            <p:cNvSpPr/>
            <p:nvPr/>
          </p:nvSpPr>
          <p:spPr>
            <a:xfrm>
              <a:off x="7080120" y="3084480"/>
              <a:ext cx="275400" cy="2422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63"/>
            <p:cNvSpPr/>
            <p:nvPr/>
          </p:nvSpPr>
          <p:spPr>
            <a:xfrm>
              <a:off x="7080120" y="3084480"/>
              <a:ext cx="286920" cy="2534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64"/>
            <p:cNvSpPr/>
            <p:nvPr/>
          </p:nvSpPr>
          <p:spPr>
            <a:xfrm>
              <a:off x="7080120" y="3084480"/>
              <a:ext cx="298440" cy="2638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65"/>
            <p:cNvSpPr/>
            <p:nvPr/>
          </p:nvSpPr>
          <p:spPr>
            <a:xfrm>
              <a:off x="7080120" y="3085560"/>
              <a:ext cx="310320" cy="27324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66"/>
            <p:cNvSpPr/>
            <p:nvPr/>
          </p:nvSpPr>
          <p:spPr>
            <a:xfrm>
              <a:off x="7080120" y="3085560"/>
              <a:ext cx="321840" cy="28440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67"/>
            <p:cNvSpPr/>
            <p:nvPr/>
          </p:nvSpPr>
          <p:spPr>
            <a:xfrm>
              <a:off x="7080120" y="308628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68"/>
            <p:cNvSpPr/>
            <p:nvPr/>
          </p:nvSpPr>
          <p:spPr>
            <a:xfrm>
              <a:off x="7080120" y="3086280"/>
              <a:ext cx="345240" cy="3042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69"/>
            <p:cNvSpPr/>
            <p:nvPr/>
          </p:nvSpPr>
          <p:spPr>
            <a:xfrm>
              <a:off x="7080120" y="3086280"/>
              <a:ext cx="356760" cy="315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70"/>
            <p:cNvSpPr/>
            <p:nvPr/>
          </p:nvSpPr>
          <p:spPr>
            <a:xfrm>
              <a:off x="7080120" y="3087360"/>
              <a:ext cx="368640" cy="3153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71"/>
            <p:cNvSpPr/>
            <p:nvPr/>
          </p:nvSpPr>
          <p:spPr>
            <a:xfrm>
              <a:off x="7092000" y="3087360"/>
              <a:ext cx="368640" cy="3146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72"/>
            <p:cNvSpPr/>
            <p:nvPr/>
          </p:nvSpPr>
          <p:spPr>
            <a:xfrm>
              <a:off x="7104600" y="3088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73"/>
            <p:cNvSpPr/>
            <p:nvPr/>
          </p:nvSpPr>
          <p:spPr>
            <a:xfrm>
              <a:off x="7116120" y="3088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74"/>
            <p:cNvSpPr/>
            <p:nvPr/>
          </p:nvSpPr>
          <p:spPr>
            <a:xfrm>
              <a:off x="7128720" y="3088080"/>
              <a:ext cx="367560" cy="31248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75"/>
            <p:cNvSpPr/>
            <p:nvPr/>
          </p:nvSpPr>
          <p:spPr>
            <a:xfrm>
              <a:off x="7141680" y="3089160"/>
              <a:ext cx="366480" cy="31176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76"/>
            <p:cNvSpPr/>
            <p:nvPr/>
          </p:nvSpPr>
          <p:spPr>
            <a:xfrm>
              <a:off x="7154280" y="3089160"/>
              <a:ext cx="365400" cy="3106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77"/>
            <p:cNvSpPr/>
            <p:nvPr/>
          </p:nvSpPr>
          <p:spPr>
            <a:xfrm>
              <a:off x="7166880" y="3089160"/>
              <a:ext cx="364320" cy="31068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78"/>
            <p:cNvSpPr/>
            <p:nvPr/>
          </p:nvSpPr>
          <p:spPr>
            <a:xfrm>
              <a:off x="7179840" y="3090240"/>
              <a:ext cx="375840" cy="3088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79"/>
            <p:cNvSpPr/>
            <p:nvPr/>
          </p:nvSpPr>
          <p:spPr>
            <a:xfrm>
              <a:off x="7205040" y="3090960"/>
              <a:ext cx="362160" cy="3078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80"/>
            <p:cNvSpPr/>
            <p:nvPr/>
          </p:nvSpPr>
          <p:spPr>
            <a:xfrm>
              <a:off x="7219080" y="3090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81"/>
            <p:cNvSpPr/>
            <p:nvPr/>
          </p:nvSpPr>
          <p:spPr>
            <a:xfrm>
              <a:off x="7231680" y="3090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82"/>
            <p:cNvSpPr/>
            <p:nvPr/>
          </p:nvSpPr>
          <p:spPr>
            <a:xfrm>
              <a:off x="7245360" y="3092040"/>
              <a:ext cx="360000" cy="30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83"/>
            <p:cNvSpPr/>
            <p:nvPr/>
          </p:nvSpPr>
          <p:spPr>
            <a:xfrm>
              <a:off x="7257960" y="3092040"/>
              <a:ext cx="358920" cy="305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84"/>
            <p:cNvSpPr/>
            <p:nvPr/>
          </p:nvSpPr>
          <p:spPr>
            <a:xfrm>
              <a:off x="7272000" y="3092760"/>
              <a:ext cx="347400" cy="3031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85"/>
            <p:cNvSpPr/>
            <p:nvPr/>
          </p:nvSpPr>
          <p:spPr>
            <a:xfrm>
              <a:off x="7285680" y="310212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86"/>
            <p:cNvSpPr/>
            <p:nvPr/>
          </p:nvSpPr>
          <p:spPr>
            <a:xfrm>
              <a:off x="7298640" y="3113640"/>
              <a:ext cx="320760" cy="2826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87"/>
            <p:cNvSpPr/>
            <p:nvPr/>
          </p:nvSpPr>
          <p:spPr>
            <a:xfrm>
              <a:off x="7312320" y="3124800"/>
              <a:ext cx="307080" cy="2703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88"/>
            <p:cNvSpPr/>
            <p:nvPr/>
          </p:nvSpPr>
          <p:spPr>
            <a:xfrm>
              <a:off x="7324920" y="3135960"/>
              <a:ext cx="294480" cy="259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89"/>
            <p:cNvSpPr/>
            <p:nvPr/>
          </p:nvSpPr>
          <p:spPr>
            <a:xfrm>
              <a:off x="7338600" y="3147480"/>
              <a:ext cx="280440" cy="2469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90"/>
            <p:cNvSpPr/>
            <p:nvPr/>
          </p:nvSpPr>
          <p:spPr>
            <a:xfrm>
              <a:off x="7351560" y="3158640"/>
              <a:ext cx="267840" cy="235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91"/>
            <p:cNvSpPr/>
            <p:nvPr/>
          </p:nvSpPr>
          <p:spPr>
            <a:xfrm>
              <a:off x="7365240" y="3169800"/>
              <a:ext cx="254160" cy="2232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92"/>
            <p:cNvSpPr/>
            <p:nvPr/>
          </p:nvSpPr>
          <p:spPr>
            <a:xfrm>
              <a:off x="7377840" y="3181320"/>
              <a:ext cx="241560" cy="2120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93"/>
            <p:cNvSpPr/>
            <p:nvPr/>
          </p:nvSpPr>
          <p:spPr>
            <a:xfrm>
              <a:off x="7391520" y="3192480"/>
              <a:ext cx="227520" cy="20088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94"/>
            <p:cNvSpPr/>
            <p:nvPr/>
          </p:nvSpPr>
          <p:spPr>
            <a:xfrm>
              <a:off x="7405560" y="3203640"/>
              <a:ext cx="213840" cy="1886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95"/>
            <p:cNvSpPr/>
            <p:nvPr/>
          </p:nvSpPr>
          <p:spPr>
            <a:xfrm>
              <a:off x="7418160" y="3215160"/>
              <a:ext cx="201240" cy="17748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96"/>
            <p:cNvSpPr/>
            <p:nvPr/>
          </p:nvSpPr>
          <p:spPr>
            <a:xfrm>
              <a:off x="7431840" y="3226320"/>
              <a:ext cx="187200" cy="1652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97"/>
            <p:cNvSpPr/>
            <p:nvPr/>
          </p:nvSpPr>
          <p:spPr>
            <a:xfrm>
              <a:off x="7444800" y="3237480"/>
              <a:ext cx="174600" cy="154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98"/>
            <p:cNvSpPr/>
            <p:nvPr/>
          </p:nvSpPr>
          <p:spPr>
            <a:xfrm>
              <a:off x="7458480" y="3248640"/>
              <a:ext cx="160920" cy="1418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99"/>
            <p:cNvSpPr/>
            <p:nvPr/>
          </p:nvSpPr>
          <p:spPr>
            <a:xfrm>
              <a:off x="7471080" y="3260160"/>
              <a:ext cx="149400" cy="1303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100"/>
            <p:cNvSpPr/>
            <p:nvPr/>
          </p:nvSpPr>
          <p:spPr>
            <a:xfrm>
              <a:off x="7092000" y="3088080"/>
              <a:ext cx="519840" cy="30240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101"/>
            <p:cNvSpPr/>
            <p:nvPr/>
          </p:nvSpPr>
          <p:spPr>
            <a:xfrm>
              <a:off x="7092000" y="3102120"/>
              <a:ext cx="519840" cy="28836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102"/>
            <p:cNvSpPr/>
            <p:nvPr/>
          </p:nvSpPr>
          <p:spPr>
            <a:xfrm>
              <a:off x="7077960" y="3386880"/>
              <a:ext cx="544320" cy="1944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103"/>
            <p:cNvSpPr/>
            <p:nvPr/>
          </p:nvSpPr>
          <p:spPr>
            <a:xfrm>
              <a:off x="7075080" y="3385080"/>
              <a:ext cx="551880" cy="234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104"/>
            <p:cNvSpPr/>
            <p:nvPr/>
          </p:nvSpPr>
          <p:spPr>
            <a:xfrm>
              <a:off x="7074000" y="3070440"/>
              <a:ext cx="6120" cy="338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105"/>
            <p:cNvSpPr/>
            <p:nvPr/>
          </p:nvSpPr>
          <p:spPr>
            <a:xfrm>
              <a:off x="7099200" y="3097440"/>
              <a:ext cx="442440" cy="21780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106"/>
            <p:cNvSpPr/>
            <p:nvPr/>
          </p:nvSpPr>
          <p:spPr>
            <a:xfrm>
              <a:off x="7103520" y="3098520"/>
              <a:ext cx="430920" cy="21204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107"/>
            <p:cNvSpPr/>
            <p:nvPr/>
          </p:nvSpPr>
          <p:spPr>
            <a:xfrm>
              <a:off x="7107840" y="3100320"/>
              <a:ext cx="419400" cy="205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108"/>
            <p:cNvSpPr/>
            <p:nvPr/>
          </p:nvSpPr>
          <p:spPr>
            <a:xfrm>
              <a:off x="7111800" y="3101400"/>
              <a:ext cx="407880" cy="19980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109"/>
            <p:cNvSpPr/>
            <p:nvPr/>
          </p:nvSpPr>
          <p:spPr>
            <a:xfrm>
              <a:off x="7116120" y="3103200"/>
              <a:ext cx="397080" cy="1933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110"/>
            <p:cNvSpPr/>
            <p:nvPr/>
          </p:nvSpPr>
          <p:spPr>
            <a:xfrm>
              <a:off x="7120440" y="3104280"/>
              <a:ext cx="385560" cy="187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111"/>
            <p:cNvSpPr/>
            <p:nvPr/>
          </p:nvSpPr>
          <p:spPr>
            <a:xfrm>
              <a:off x="7124760" y="3106080"/>
              <a:ext cx="373680" cy="18108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112"/>
            <p:cNvSpPr/>
            <p:nvPr/>
          </p:nvSpPr>
          <p:spPr>
            <a:xfrm>
              <a:off x="7128720" y="3107160"/>
              <a:ext cx="362160" cy="1753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113"/>
            <p:cNvSpPr/>
            <p:nvPr/>
          </p:nvSpPr>
          <p:spPr>
            <a:xfrm>
              <a:off x="7134120" y="3107880"/>
              <a:ext cx="350640" cy="1699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114"/>
            <p:cNvSpPr/>
            <p:nvPr/>
          </p:nvSpPr>
          <p:spPr>
            <a:xfrm>
              <a:off x="7138440" y="3109680"/>
              <a:ext cx="338760" cy="1634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115"/>
            <p:cNvSpPr/>
            <p:nvPr/>
          </p:nvSpPr>
          <p:spPr>
            <a:xfrm>
              <a:off x="7142760" y="3110760"/>
              <a:ext cx="327240" cy="15768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116"/>
            <p:cNvSpPr/>
            <p:nvPr/>
          </p:nvSpPr>
          <p:spPr>
            <a:xfrm>
              <a:off x="7146720" y="3112560"/>
              <a:ext cx="315720" cy="1512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17"/>
            <p:cNvSpPr/>
            <p:nvPr/>
          </p:nvSpPr>
          <p:spPr>
            <a:xfrm>
              <a:off x="7151040" y="3113640"/>
              <a:ext cx="303840" cy="14544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18"/>
            <p:cNvSpPr/>
            <p:nvPr/>
          </p:nvSpPr>
          <p:spPr>
            <a:xfrm>
              <a:off x="7155360" y="3115440"/>
              <a:ext cx="293400" cy="13896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19"/>
            <p:cNvSpPr/>
            <p:nvPr/>
          </p:nvSpPr>
          <p:spPr>
            <a:xfrm>
              <a:off x="7159680" y="3116520"/>
              <a:ext cx="281520" cy="1342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20"/>
            <p:cNvSpPr/>
            <p:nvPr/>
          </p:nvSpPr>
          <p:spPr>
            <a:xfrm>
              <a:off x="7164000" y="3117240"/>
              <a:ext cx="270000" cy="1285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21"/>
            <p:cNvSpPr/>
            <p:nvPr/>
          </p:nvSpPr>
          <p:spPr>
            <a:xfrm>
              <a:off x="7167960" y="3119040"/>
              <a:ext cx="258480" cy="1220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22"/>
            <p:cNvSpPr/>
            <p:nvPr/>
          </p:nvSpPr>
          <p:spPr>
            <a:xfrm>
              <a:off x="7172280" y="3120120"/>
              <a:ext cx="247680" cy="116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23"/>
            <p:cNvSpPr/>
            <p:nvPr/>
          </p:nvSpPr>
          <p:spPr>
            <a:xfrm>
              <a:off x="7176600" y="3121920"/>
              <a:ext cx="236160" cy="1098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24"/>
            <p:cNvSpPr/>
            <p:nvPr/>
          </p:nvSpPr>
          <p:spPr>
            <a:xfrm>
              <a:off x="7180920" y="3123000"/>
              <a:ext cx="224280" cy="1040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125"/>
            <p:cNvSpPr/>
            <p:nvPr/>
          </p:nvSpPr>
          <p:spPr>
            <a:xfrm>
              <a:off x="7186320" y="3124800"/>
              <a:ext cx="211680" cy="975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126"/>
            <p:cNvSpPr/>
            <p:nvPr/>
          </p:nvSpPr>
          <p:spPr>
            <a:xfrm>
              <a:off x="7190280" y="3125880"/>
              <a:ext cx="200160" cy="918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127"/>
            <p:cNvSpPr/>
            <p:nvPr/>
          </p:nvSpPr>
          <p:spPr>
            <a:xfrm>
              <a:off x="7194600" y="3126600"/>
              <a:ext cx="189360" cy="8604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128"/>
            <p:cNvSpPr/>
            <p:nvPr/>
          </p:nvSpPr>
          <p:spPr>
            <a:xfrm>
              <a:off x="7198920" y="3128400"/>
              <a:ext cx="177840" cy="795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AutoShape 365"/>
          <p:cNvSpPr/>
          <p:nvPr/>
        </p:nvSpPr>
        <p:spPr>
          <a:xfrm>
            <a:off x="5518080" y="1052640"/>
            <a:ext cx="792360" cy="3168360"/>
          </a:xfrm>
          <a:prstGeom prst="cloudCallout">
            <a:avLst>
              <a:gd name="adj1" fmla="val 38981"/>
              <a:gd name="adj2" fmla="val 2981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796" descr="写真：HVR（監視カメラ）システム"/>
          <p:cNvPicPr/>
          <p:nvPr/>
        </p:nvPicPr>
        <p:blipFill>
          <a:blip r:embed="rId7"/>
          <a:stretch/>
        </p:blipFill>
        <p:spPr>
          <a:xfrm>
            <a:off x="7192800" y="4057560"/>
            <a:ext cx="374760" cy="3747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97" descr="写真：防犯ライト「センサーライト」"/>
          <p:cNvPicPr/>
          <p:nvPr/>
        </p:nvPicPr>
        <p:blipFill>
          <a:blip r:embed="rId8"/>
          <a:stretch/>
        </p:blipFill>
        <p:spPr>
          <a:xfrm>
            <a:off x="7823160" y="40575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798"/>
          <p:cNvSpPr/>
          <p:nvPr/>
        </p:nvSpPr>
        <p:spPr>
          <a:xfrm>
            <a:off x="6885360" y="441792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e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Picture 131" descr="j0431633[1]"/>
          <p:cNvPicPr/>
          <p:nvPr/>
        </p:nvPicPr>
        <p:blipFill>
          <a:blip r:embed="rId9"/>
          <a:stretch/>
        </p:blipFill>
        <p:spPr>
          <a:xfrm>
            <a:off x="7086600" y="1906560"/>
            <a:ext cx="519120" cy="495360"/>
          </a:xfrm>
          <a:prstGeom prst="rect">
            <a:avLst/>
          </a:prstGeom>
          <a:ln w="0">
            <a:noFill/>
          </a:ln>
        </p:spPr>
      </p:pic>
      <p:sp>
        <p:nvSpPr>
          <p:cNvPr id="777" name="Line 800"/>
          <p:cNvSpPr/>
          <p:nvPr/>
        </p:nvSpPr>
        <p:spPr>
          <a:xfrm flipV="1">
            <a:off x="7343640" y="3662280"/>
            <a:ext cx="0" cy="3952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カギ線コネクタ 277"/>
          <p:cNvCxnSpPr>
            <a:stCxn id="662" idx="3"/>
            <a:endCxn id="669" idx="1"/>
          </p:cNvCxnSpPr>
          <p:nvPr/>
        </p:nvCxnSpPr>
        <p:spPr>
          <a:xfrm>
            <a:off x="1193760" y="1410840"/>
            <a:ext cx="565920" cy="97380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79" name="カギ線コネクタ 278"/>
          <p:cNvCxnSpPr>
            <a:stCxn id="665" idx="3"/>
            <a:endCxn id="669" idx="1"/>
          </p:cNvCxnSpPr>
          <p:nvPr/>
        </p:nvCxnSpPr>
        <p:spPr>
          <a:xfrm flipV="1">
            <a:off x="1180800" y="2383560"/>
            <a:ext cx="578520" cy="151380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80" name="カギ線コネクタ 281"/>
          <p:cNvCxnSpPr>
            <a:stCxn id="664" idx="3"/>
            <a:endCxn id="669" idx="1"/>
          </p:cNvCxnSpPr>
          <p:nvPr/>
        </p:nvCxnSpPr>
        <p:spPr>
          <a:xfrm flipV="1">
            <a:off x="1193760" y="2383920"/>
            <a:ext cx="565920" cy="13248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81" name="カギ線コネクタ 288"/>
          <p:cNvCxnSpPr>
            <a:stCxn id="669" idx="3"/>
            <a:endCxn id="672" idx="1"/>
          </p:cNvCxnSpPr>
          <p:nvPr/>
        </p:nvCxnSpPr>
        <p:spPr>
          <a:xfrm flipV="1">
            <a:off x="2785680" y="2381040"/>
            <a:ext cx="1291320" cy="360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82" name="Line 800"/>
          <p:cNvSpPr/>
          <p:nvPr/>
        </p:nvSpPr>
        <p:spPr>
          <a:xfrm flipV="1">
            <a:off x="7964640" y="3645000"/>
            <a:ext cx="0" cy="41256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3" name="カギ線コネクタ 505"/>
          <p:cNvCxnSpPr>
            <a:stCxn id="672" idx="3"/>
          </p:cNvCxnSpPr>
          <p:nvPr/>
        </p:nvCxnSpPr>
        <p:spPr>
          <a:xfrm flipV="1">
            <a:off x="5157720" y="941400"/>
            <a:ext cx="1883520" cy="1440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4" name="カギ線コネクタ 506"/>
          <p:cNvCxnSpPr>
            <a:stCxn id="672" idx="3"/>
          </p:cNvCxnSpPr>
          <p:nvPr/>
        </p:nvCxnSpPr>
        <p:spPr>
          <a:xfrm flipV="1">
            <a:off x="5157720" y="1517040"/>
            <a:ext cx="1883520" cy="864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5" name="カギ線コネクタ 507"/>
          <p:cNvCxnSpPr>
            <a:stCxn id="672" idx="3"/>
          </p:cNvCxnSpPr>
          <p:nvPr/>
        </p:nvCxnSpPr>
        <p:spPr>
          <a:xfrm flipV="1">
            <a:off x="5157720" y="2093040"/>
            <a:ext cx="1883520" cy="288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6" name="カギ線コネクタ 508"/>
          <p:cNvCxnSpPr>
            <a:stCxn id="672" idx="3"/>
          </p:cNvCxnSpPr>
          <p:nvPr/>
        </p:nvCxnSpPr>
        <p:spPr>
          <a:xfrm>
            <a:off x="5157720" y="2381400"/>
            <a:ext cx="1883520" cy="28944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7" name="カギ線コネクタ 509"/>
          <p:cNvCxnSpPr>
            <a:stCxn id="672" idx="3"/>
          </p:cNvCxnSpPr>
          <p:nvPr/>
        </p:nvCxnSpPr>
        <p:spPr>
          <a:xfrm>
            <a:off x="5157720" y="2381400"/>
            <a:ext cx="1883520" cy="79272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88" name="Picture 2" descr="C:\Users\nakao\Desktop\案件\素材集\7イラスト・写真\イラスト\パソコン\OA機器\computer02.jpg"/>
          <p:cNvPicPr/>
          <p:nvPr/>
        </p:nvPicPr>
        <p:blipFill>
          <a:blip r:embed="rId10"/>
          <a:stretch/>
        </p:blipFill>
        <p:spPr>
          <a:xfrm>
            <a:off x="522360" y="3656160"/>
            <a:ext cx="374400" cy="4935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C:\Users\nakao\Desktop\案件\素材集\7イラスト・写真\イラスト\パソコン\OA機器\computer02.jpg"/>
          <p:cNvPicPr/>
          <p:nvPr/>
        </p:nvPicPr>
        <p:blipFill>
          <a:blip r:embed="rId11"/>
          <a:stretch/>
        </p:blipFill>
        <p:spPr>
          <a:xfrm>
            <a:off x="547560" y="2287440"/>
            <a:ext cx="374760" cy="49392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" descr="C:\Users\nakao\Desktop\案件\素材集\7イラスト・写真\イラスト\パソコン\OA機器\computer02.jpg"/>
          <p:cNvPicPr/>
          <p:nvPr/>
        </p:nvPicPr>
        <p:blipFill>
          <a:blip r:embed="rId12"/>
          <a:stretch/>
        </p:blipFill>
        <p:spPr>
          <a:xfrm>
            <a:off x="573120" y="820800"/>
            <a:ext cx="374760" cy="4935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92" descr="詳細を表示"/>
          <p:cNvPicPr/>
          <p:nvPr/>
        </p:nvPicPr>
        <p:blipFill>
          <a:blip r:embed="rId13"/>
          <a:stretch/>
        </p:blipFill>
        <p:spPr>
          <a:xfrm>
            <a:off x="1930320" y="1708200"/>
            <a:ext cx="833400" cy="73512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282"/>
          <p:cNvSpPr/>
          <p:nvPr/>
        </p:nvSpPr>
        <p:spPr>
          <a:xfrm rot="4462800">
            <a:off x="4260600" y="2020680"/>
            <a:ext cx="577800" cy="79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3" descr="C:\Users\nakao\Desktop\案件\素材集\7イラスト・写真\イラスト\パソコン\OA機器\computer11.jpg"/>
          <p:cNvPicPr/>
          <p:nvPr/>
        </p:nvPicPr>
        <p:blipFill>
          <a:blip r:embed="rId14"/>
          <a:stretch/>
        </p:blipFill>
        <p:spPr>
          <a:xfrm>
            <a:off x="4149720" y="1482840"/>
            <a:ext cx="512640" cy="41256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49"/>
          <p:cNvSpPr/>
          <p:nvPr/>
        </p:nvSpPr>
        <p:spPr>
          <a:xfrm>
            <a:off x="4149720" y="907920"/>
            <a:ext cx="9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 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266"/>
          <p:cNvSpPr/>
          <p:nvPr/>
        </p:nvSpPr>
        <p:spPr>
          <a:xfrm rot="10800000">
            <a:off x="3206520" y="2058840"/>
            <a:ext cx="3934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267"/>
          <p:cNvSpPr/>
          <p:nvPr/>
        </p:nvSpPr>
        <p:spPr>
          <a:xfrm rot="10800000">
            <a:off x="5730480" y="2060280"/>
            <a:ext cx="3934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269"/>
          <p:cNvSpPr/>
          <p:nvPr/>
        </p:nvSpPr>
        <p:spPr>
          <a:xfrm>
            <a:off x="4503600" y="2708280"/>
            <a:ext cx="1519200" cy="2890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367"/>
          <p:cNvSpPr/>
          <p:nvPr/>
        </p:nvSpPr>
        <p:spPr>
          <a:xfrm>
            <a:off x="292572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367"/>
          <p:cNvSpPr/>
          <p:nvPr/>
        </p:nvSpPr>
        <p:spPr>
          <a:xfrm>
            <a:off x="386244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367"/>
          <p:cNvSpPr/>
          <p:nvPr/>
        </p:nvSpPr>
        <p:spPr>
          <a:xfrm>
            <a:off x="523080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367"/>
          <p:cNvSpPr/>
          <p:nvPr/>
        </p:nvSpPr>
        <p:spPr>
          <a:xfrm>
            <a:off x="688644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ge has the following three technical requirem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B229282-BAEC-4B98-9F1F-968FF02ED10F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図表 5" descr=""/>
          <p:cNvPicPr/>
          <p:nvPr/>
        </p:nvPicPr>
        <p:blipFill>
          <a:blip r:embed="rId2"/>
          <a:stretch/>
        </p:blipFill>
        <p:spPr>
          <a:xfrm>
            <a:off x="450720" y="1238400"/>
            <a:ext cx="812016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ening tal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ge over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is digital signag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ket trend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6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7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8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chnical requireme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9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ture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10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cussion / Q&amp;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DSC00673"/>
          <p:cNvPicPr/>
          <p:nvPr/>
        </p:nvPicPr>
        <p:blipFill>
          <a:blip r:embed="rId11"/>
          <a:stretch/>
        </p:blipFill>
        <p:spPr>
          <a:xfrm>
            <a:off x="4427640" y="907920"/>
            <a:ext cx="4127400" cy="55040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6744600" y="3894120"/>
            <a:ext cx="16160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Sig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7380360" y="3141720"/>
            <a:ext cx="431640" cy="752400"/>
          </a:xfrm>
          <a:prstGeom prst="upArrow">
            <a:avLst>
              <a:gd name="adj1" fmla="val 50000"/>
              <a:gd name="adj2" fmla="val 435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Displ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6B259BB-B417-45AF-90BE-EA1E820B0297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0" y="835200"/>
            <a:ext cx="8845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Net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8B25188-DB14-414C-B306-EDAD16A62154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0" y="835200"/>
            <a:ext cx="8845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Servi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1FE792C-B1C1-4227-AA90-16F79D060174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0" y="835200"/>
            <a:ext cx="88455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Signage profile and related W3C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149400" y="1530360"/>
          <a:ext cx="8845200" cy="4491000"/>
        </p:xfrm>
        <a:graphic>
          <a:graphicData uri="http://schemas.openxmlformats.org/drawingml/2006/table">
            <a:tbl>
              <a:tblPr/>
              <a:tblGrid>
                <a:gridCol w="1044360"/>
                <a:gridCol w="1060560"/>
                <a:gridCol w="1136520"/>
                <a:gridCol w="1135080"/>
                <a:gridCol w="1136520"/>
                <a:gridCol w="3332160"/>
              </a:tblGrid>
              <a:tr h="2448720">
                <a:tc>
                  <a:txBody>
                    <a:bodyPr lIns="96120" rIns="9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qu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2280">
                <a:tc>
                  <a:txBody>
                    <a:bodyPr lIns="96120" rIns="9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3C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wor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o location A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T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so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6F7095D-03B0-4A7D-8E21-99120ABBC00C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グループ化 6"/>
          <p:cNvGrpSpPr/>
          <p:nvPr/>
        </p:nvGrpSpPr>
        <p:grpSpPr>
          <a:xfrm>
            <a:off x="2340000" y="2357280"/>
            <a:ext cx="1101600" cy="563760"/>
            <a:chOff x="2340000" y="2357280"/>
            <a:chExt cx="1101600" cy="563760"/>
          </a:xfrm>
        </p:grpSpPr>
        <p:sp>
          <p:nvSpPr>
            <p:cNvPr id="824" name="角丸四角形 7"/>
            <p:cNvSpPr/>
            <p:nvPr/>
          </p:nvSpPr>
          <p:spPr>
            <a:xfrm>
              <a:off x="2340000" y="2357280"/>
              <a:ext cx="1101600" cy="5637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角丸四角形 4"/>
            <p:cNvSpPr/>
            <p:nvPr/>
          </p:nvSpPr>
          <p:spPr>
            <a:xfrm>
              <a:off x="2365200" y="2384280"/>
              <a:ext cx="10508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Re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グループ化 9"/>
          <p:cNvGrpSpPr/>
          <p:nvPr/>
        </p:nvGrpSpPr>
        <p:grpSpPr>
          <a:xfrm>
            <a:off x="3419640" y="2573280"/>
            <a:ext cx="1103040" cy="644760"/>
            <a:chOff x="3419640" y="2573280"/>
            <a:chExt cx="1103040" cy="644760"/>
          </a:xfrm>
        </p:grpSpPr>
        <p:sp>
          <p:nvSpPr>
            <p:cNvPr id="827" name="角丸四角形 10"/>
            <p:cNvSpPr/>
            <p:nvPr/>
          </p:nvSpPr>
          <p:spPr>
            <a:xfrm>
              <a:off x="3419640" y="2573280"/>
              <a:ext cx="1103040" cy="64476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角丸四角形 4"/>
            <p:cNvSpPr/>
            <p:nvPr/>
          </p:nvSpPr>
          <p:spPr>
            <a:xfrm>
              <a:off x="3444840" y="2606400"/>
              <a:ext cx="1052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グループ化 12"/>
          <p:cNvGrpSpPr/>
          <p:nvPr/>
        </p:nvGrpSpPr>
        <p:grpSpPr>
          <a:xfrm>
            <a:off x="4506840" y="2770200"/>
            <a:ext cx="1073160" cy="595440"/>
            <a:chOff x="4506840" y="2770200"/>
            <a:chExt cx="1073160" cy="595440"/>
          </a:xfrm>
        </p:grpSpPr>
        <p:sp>
          <p:nvSpPr>
            <p:cNvPr id="830" name="角丸四角形 13"/>
            <p:cNvSpPr/>
            <p:nvPr/>
          </p:nvSpPr>
          <p:spPr>
            <a:xfrm>
              <a:off x="4506840" y="2770200"/>
              <a:ext cx="1073160" cy="595440"/>
            </a:xfrm>
            <a:prstGeom prst="roundRect">
              <a:avLst>
                <a:gd name="adj" fmla="val 16667"/>
              </a:avLst>
            </a:prstGeom>
            <a:solidFill>
              <a:srgbClr val="ff1a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角丸四角形 4"/>
            <p:cNvSpPr/>
            <p:nvPr/>
          </p:nvSpPr>
          <p:spPr>
            <a:xfrm>
              <a:off x="4535280" y="2798640"/>
              <a:ext cx="101628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u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グループ化 15"/>
          <p:cNvGrpSpPr/>
          <p:nvPr/>
        </p:nvGrpSpPr>
        <p:grpSpPr>
          <a:xfrm>
            <a:off x="5629320" y="1828800"/>
            <a:ext cx="1103400" cy="600120"/>
            <a:chOff x="5629320" y="1828800"/>
            <a:chExt cx="1103400" cy="600120"/>
          </a:xfrm>
        </p:grpSpPr>
        <p:sp>
          <p:nvSpPr>
            <p:cNvPr id="833" name="角丸四角形 25"/>
            <p:cNvSpPr/>
            <p:nvPr/>
          </p:nvSpPr>
          <p:spPr>
            <a:xfrm>
              <a:off x="5629320" y="1828800"/>
              <a:ext cx="110340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角丸四角形 4"/>
            <p:cNvSpPr/>
            <p:nvPr/>
          </p:nvSpPr>
          <p:spPr>
            <a:xfrm>
              <a:off x="5654520" y="1857240"/>
              <a:ext cx="10526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Font stre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グループ化 16"/>
          <p:cNvGrpSpPr/>
          <p:nvPr/>
        </p:nvGrpSpPr>
        <p:grpSpPr>
          <a:xfrm>
            <a:off x="6516720" y="2860560"/>
            <a:ext cx="1101600" cy="600120"/>
            <a:chOff x="6516720" y="2860560"/>
            <a:chExt cx="1101600" cy="600120"/>
          </a:xfrm>
        </p:grpSpPr>
        <p:sp>
          <p:nvSpPr>
            <p:cNvPr id="836" name="角丸四角形 23"/>
            <p:cNvSpPr/>
            <p:nvPr/>
          </p:nvSpPr>
          <p:spPr>
            <a:xfrm>
              <a:off x="6516720" y="2860560"/>
              <a:ext cx="110160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角丸四角形 6"/>
            <p:cNvSpPr/>
            <p:nvPr/>
          </p:nvSpPr>
          <p:spPr>
            <a:xfrm>
              <a:off x="6541920" y="2889000"/>
              <a:ext cx="10508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グループ化 17"/>
          <p:cNvGrpSpPr/>
          <p:nvPr/>
        </p:nvGrpSpPr>
        <p:grpSpPr>
          <a:xfrm>
            <a:off x="5629320" y="2549520"/>
            <a:ext cx="1103400" cy="600120"/>
            <a:chOff x="5629320" y="2549520"/>
            <a:chExt cx="1103400" cy="600120"/>
          </a:xfrm>
        </p:grpSpPr>
        <p:sp>
          <p:nvSpPr>
            <p:cNvPr id="839" name="角丸四角形 21"/>
            <p:cNvSpPr/>
            <p:nvPr/>
          </p:nvSpPr>
          <p:spPr>
            <a:xfrm>
              <a:off x="5629320" y="2549520"/>
              <a:ext cx="110340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角丸四角形 8"/>
            <p:cNvSpPr/>
            <p:nvPr/>
          </p:nvSpPr>
          <p:spPr>
            <a:xfrm>
              <a:off x="5654520" y="2577960"/>
              <a:ext cx="10526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グループ化 18"/>
          <p:cNvGrpSpPr/>
          <p:nvPr/>
        </p:nvGrpSpPr>
        <p:grpSpPr>
          <a:xfrm>
            <a:off x="6523200" y="1752480"/>
            <a:ext cx="1245960" cy="600120"/>
            <a:chOff x="6523200" y="1752480"/>
            <a:chExt cx="1245960" cy="600120"/>
          </a:xfrm>
        </p:grpSpPr>
        <p:sp>
          <p:nvSpPr>
            <p:cNvPr id="842" name="角丸四角形 19"/>
            <p:cNvSpPr/>
            <p:nvPr/>
          </p:nvSpPr>
          <p:spPr>
            <a:xfrm>
              <a:off x="6523200" y="1752480"/>
              <a:ext cx="124596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角丸四角形 10"/>
            <p:cNvSpPr/>
            <p:nvPr/>
          </p:nvSpPr>
          <p:spPr>
            <a:xfrm>
              <a:off x="6551640" y="1780920"/>
              <a:ext cx="11890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ynchro-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グループ化 27"/>
          <p:cNvGrpSpPr/>
          <p:nvPr/>
        </p:nvGrpSpPr>
        <p:grpSpPr>
          <a:xfrm>
            <a:off x="7740720" y="1941480"/>
            <a:ext cx="1101600" cy="631800"/>
            <a:chOff x="7740720" y="1941480"/>
            <a:chExt cx="1101600" cy="631800"/>
          </a:xfrm>
        </p:grpSpPr>
        <p:sp>
          <p:nvSpPr>
            <p:cNvPr id="845" name="角丸四角形 37"/>
            <p:cNvSpPr/>
            <p:nvPr/>
          </p:nvSpPr>
          <p:spPr>
            <a:xfrm>
              <a:off x="7740720" y="1941480"/>
              <a:ext cx="1101600" cy="631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角丸四角形 4"/>
            <p:cNvSpPr/>
            <p:nvPr/>
          </p:nvSpPr>
          <p:spPr>
            <a:xfrm>
              <a:off x="7765920" y="1971360"/>
              <a:ext cx="10508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lay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グループ化 28"/>
          <p:cNvGrpSpPr/>
          <p:nvPr/>
        </p:nvGrpSpPr>
        <p:grpSpPr>
          <a:xfrm>
            <a:off x="6804000" y="2230560"/>
            <a:ext cx="1103400" cy="630000"/>
            <a:chOff x="6804000" y="2230560"/>
            <a:chExt cx="1103400" cy="630000"/>
          </a:xfrm>
        </p:grpSpPr>
        <p:sp>
          <p:nvSpPr>
            <p:cNvPr id="848" name="角丸四角形 35"/>
            <p:cNvSpPr/>
            <p:nvPr/>
          </p:nvSpPr>
          <p:spPr>
            <a:xfrm>
              <a:off x="6804000" y="2230560"/>
              <a:ext cx="1103400" cy="6300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角丸四角形 6"/>
            <p:cNvSpPr/>
            <p:nvPr/>
          </p:nvSpPr>
          <p:spPr>
            <a:xfrm>
              <a:off x="6829200" y="2260440"/>
              <a:ext cx="1052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File update ti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グループ化 29"/>
          <p:cNvGrpSpPr/>
          <p:nvPr/>
        </p:nvGrpSpPr>
        <p:grpSpPr>
          <a:xfrm>
            <a:off x="7645320" y="2573280"/>
            <a:ext cx="1103400" cy="631800"/>
            <a:chOff x="7645320" y="2573280"/>
            <a:chExt cx="1103400" cy="631800"/>
          </a:xfrm>
        </p:grpSpPr>
        <p:sp>
          <p:nvSpPr>
            <p:cNvPr id="851" name="角丸四角形 33"/>
            <p:cNvSpPr/>
            <p:nvPr/>
          </p:nvSpPr>
          <p:spPr>
            <a:xfrm>
              <a:off x="7645320" y="2573280"/>
              <a:ext cx="1103400" cy="631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角丸四角形 8"/>
            <p:cNvSpPr/>
            <p:nvPr/>
          </p:nvSpPr>
          <p:spPr>
            <a:xfrm>
              <a:off x="7670520" y="2603160"/>
              <a:ext cx="1052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erifi-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グループ化 30"/>
          <p:cNvGrpSpPr/>
          <p:nvPr/>
        </p:nvGrpSpPr>
        <p:grpSpPr>
          <a:xfrm>
            <a:off x="7286760" y="3205080"/>
            <a:ext cx="1388880" cy="631800"/>
            <a:chOff x="7286760" y="3205080"/>
            <a:chExt cx="1388880" cy="631800"/>
          </a:xfrm>
        </p:grpSpPr>
        <p:sp>
          <p:nvSpPr>
            <p:cNvPr id="854" name="角丸四角形 31"/>
            <p:cNvSpPr/>
            <p:nvPr/>
          </p:nvSpPr>
          <p:spPr>
            <a:xfrm>
              <a:off x="7286760" y="3205080"/>
              <a:ext cx="1388880" cy="631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角丸四角形 10"/>
            <p:cNvSpPr/>
            <p:nvPr/>
          </p:nvSpPr>
          <p:spPr>
            <a:xfrm>
              <a:off x="7318440" y="3234960"/>
              <a:ext cx="1325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rminal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グループ化 39"/>
          <p:cNvGrpSpPr/>
          <p:nvPr/>
        </p:nvGrpSpPr>
        <p:grpSpPr>
          <a:xfrm>
            <a:off x="5580000" y="3211560"/>
            <a:ext cx="1246320" cy="595440"/>
            <a:chOff x="5580000" y="3211560"/>
            <a:chExt cx="1246320" cy="595440"/>
          </a:xfrm>
        </p:grpSpPr>
        <p:sp>
          <p:nvSpPr>
            <p:cNvPr id="857" name="角丸四角形 40"/>
            <p:cNvSpPr/>
            <p:nvPr/>
          </p:nvSpPr>
          <p:spPr>
            <a:xfrm>
              <a:off x="5580000" y="3211560"/>
              <a:ext cx="1246320" cy="595440"/>
            </a:xfrm>
            <a:prstGeom prst="roundRect">
              <a:avLst>
                <a:gd name="adj" fmla="val 16667"/>
              </a:avLst>
            </a:prstGeom>
            <a:solidFill>
              <a:srgbClr val="ff1a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角丸四角形 4"/>
            <p:cNvSpPr/>
            <p:nvPr/>
          </p:nvSpPr>
          <p:spPr>
            <a:xfrm>
              <a:off x="5613120" y="3240000"/>
              <a:ext cx="117972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ternal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グループ化 44"/>
          <p:cNvGrpSpPr/>
          <p:nvPr/>
        </p:nvGrpSpPr>
        <p:grpSpPr>
          <a:xfrm>
            <a:off x="2340000" y="765000"/>
            <a:ext cx="6477120" cy="3219480"/>
            <a:chOff x="2340000" y="765000"/>
            <a:chExt cx="6477120" cy="3219480"/>
          </a:xfrm>
        </p:grpSpPr>
        <p:sp>
          <p:nvSpPr>
            <p:cNvPr id="860" name="角丸四角形 42"/>
            <p:cNvSpPr/>
            <p:nvPr/>
          </p:nvSpPr>
          <p:spPr>
            <a:xfrm>
              <a:off x="2340000" y="1536120"/>
              <a:ext cx="6477120" cy="2448360"/>
            </a:xfrm>
            <a:prstGeom prst="roundRect">
              <a:avLst>
                <a:gd name="adj" fmla="val 5644"/>
              </a:avLst>
            </a:prstGeom>
            <a:noFill/>
            <a:ln w="85680">
              <a:solidFill>
                <a:srgbClr val="ff66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テキスト ボックス 43"/>
            <p:cNvSpPr/>
            <p:nvPr/>
          </p:nvSpPr>
          <p:spPr>
            <a:xfrm>
              <a:off x="3367440" y="765000"/>
              <a:ext cx="447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Digital Signage pro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ja-JP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フッター プレースホルダ 2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スライド番号プレースホルダ 3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1E7814F-04EC-4465-9055-E92C8243C6D2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テキスト ボックス 4"/>
          <p:cNvSpPr/>
          <p:nvPr/>
        </p:nvSpPr>
        <p:spPr>
          <a:xfrm>
            <a:off x="297360" y="2170080"/>
            <a:ext cx="861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Digital Sign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should be network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テキスト ボックス 5"/>
          <p:cNvSpPr/>
          <p:nvPr/>
        </p:nvSpPr>
        <p:spPr>
          <a:xfrm>
            <a:off x="4518000" y="3184560"/>
            <a:ext cx="470088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eb-bas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D707638-D465-4640-BC8C-A71CDF24EF65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10920" y="2213640"/>
            <a:ext cx="7948440" cy="9104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ture 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3E3F302-9271-4FAA-91D7-AF5C722A25C8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06440" y="6120"/>
            <a:ext cx="7694640" cy="485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ing our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signage market is expanding beyond TV screens to tablets and smart ph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is moving from video playback to dynamic and interactiv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above reason standardization in a necess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645E5FB-AE96-4B0F-BF86-339D729EFE42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ation of Web-based digital sig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ation to standar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1026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rkshop: Use case analysis, case studies, demo, site tou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2E86278-A187-41C4-8829-430C5047A74E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10920" y="2280240"/>
            <a:ext cx="7948440" cy="773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Discussion / Q&amp;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9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FCD2B1D-3B3C-4BB2-8C16-4328FA34BFD3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T Co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ii.shinji@lab.ntt.co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7F591E0-D046-4EAE-913D-B3F7F0A6CE59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9880" y="2287800"/>
            <a:ext cx="7850520" cy="757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digital sig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igital sign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9040" y="703080"/>
            <a:ext cx="4498920" cy="5678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95000"/>
          </a:bodyPr>
          <a:p>
            <a:pPr marL="310320" indent="-3103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 and display of information /data/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lectronic display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oors* (OO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57760"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ublic space, in shops, on public transport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0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OH: Out-Of-H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0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*: in 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generation (following slid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648320" y="1611360"/>
            <a:ext cx="2719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In a tr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7132680" y="1951200"/>
            <a:ext cx="1662120" cy="1463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6829560" y="1585800"/>
            <a:ext cx="2314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Large outdoor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6"/>
          <a:stretch/>
        </p:blipFill>
        <p:spPr>
          <a:xfrm>
            <a:off x="6804000" y="4619520"/>
            <a:ext cx="2281320" cy="1457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6915240" y="4284720"/>
            <a:ext cx="18795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Monitor in a 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657680" y="1042200"/>
            <a:ext cx="4159440" cy="44928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GS創英角ｺﾞｼｯｸUB"/>
              </a:rPr>
              <a:t>Examples of digital sig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5" descr="mini_icon_jiji"/>
          <p:cNvPicPr/>
          <p:nvPr/>
        </p:nvPicPr>
        <p:blipFill>
          <a:blip r:embed="rId7"/>
          <a:stretch/>
        </p:blipFill>
        <p:spPr>
          <a:xfrm>
            <a:off x="4579920" y="4635360"/>
            <a:ext cx="1995480" cy="1459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6"/>
          <p:cNvSpPr/>
          <p:nvPr/>
        </p:nvSpPr>
        <p:spPr>
          <a:xfrm>
            <a:off x="4619520" y="4075200"/>
            <a:ext cx="211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Monitors in commercial fac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006520" y="3351240"/>
            <a:ext cx="3432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HGS創英角ｺﾞｼｯｸUB"/>
              </a:rPr>
              <a:t>Progress of digitiz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HGS創英角ｺﾞｼｯｸUB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3" descr="Clipboard01"/>
          <p:cNvPicPr/>
          <p:nvPr/>
        </p:nvPicPr>
        <p:blipFill>
          <a:blip r:embed="rId8"/>
          <a:stretch/>
        </p:blipFill>
        <p:spPr>
          <a:xfrm>
            <a:off x="4616280" y="1959120"/>
            <a:ext cx="1971720" cy="1325520"/>
          </a:xfrm>
          <a:prstGeom prst="rect">
            <a:avLst/>
          </a:prstGeom>
          <a:ln w="0">
            <a:noFill/>
          </a:ln>
        </p:spPr>
      </p:pic>
      <p:sp>
        <p:nvSpPr>
          <p:cNvPr id="162" name="Oval 17"/>
          <p:cNvSpPr/>
          <p:nvPr/>
        </p:nvSpPr>
        <p:spPr>
          <a:xfrm>
            <a:off x="4564080" y="2887560"/>
            <a:ext cx="4105080" cy="20750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2"/>
          <p:cNvSpPr/>
          <p:nvPr/>
        </p:nvSpPr>
        <p:spPr>
          <a:xfrm>
            <a:off x="8101080" y="4589640"/>
            <a:ext cx="1008000" cy="1239840"/>
          </a:xfrm>
          <a:prstGeom prst="wedgeEllipseCallout">
            <a:avLst>
              <a:gd name="adj1" fmla="val -102439"/>
              <a:gd name="adj2" fmla="val 8768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TV a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Product 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How to 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Recipes,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 et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FE202D0-1232-4B69-A8E8-81C47B87A3B6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117360" y="1987560"/>
          <a:ext cx="895212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987560"/>
                    <a:ext cx="895212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6"/>
          <p:cNvSpPr/>
          <p:nvPr/>
        </p:nvSpPr>
        <p:spPr>
          <a:xfrm>
            <a:off x="1850760" y="5495040"/>
            <a:ext cx="55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Digital signage market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5270760" y="6289560"/>
            <a:ext cx="341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IMS Research “The World Market for Digital Signage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trends / digital signage market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689"/>
              </a:spcBef>
              <a:buSzPct val="107511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 is expanding worldwide trend (2009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B$⇒2013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B$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689"/>
              </a:spcBef>
              <a:buSzPct val="107511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 has spread from the advanced country to the rising nation (especially Asian markets)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61"/>
              </a:spcBef>
              <a:buSzPct val="108661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: 40%, Japan, China, UK, Germany, France,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8B8E9CB-1737-4EF8-8BB3-9A4DD9507EAF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オブジェクト 6"/>
          <p:cNvGraphicFramePr/>
          <p:nvPr/>
        </p:nvGraphicFramePr>
        <p:xfrm>
          <a:off x="406440" y="2205000"/>
          <a:ext cx="8221680" cy="434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オブジェクト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2205000"/>
                    <a:ext cx="822168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5"/>
          <p:cNvSpPr/>
          <p:nvPr/>
        </p:nvSpPr>
        <p:spPr>
          <a:xfrm>
            <a:off x="0" y="494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10920" y="58885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Market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5664600" y="6252480"/>
            <a:ext cx="337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MS Research 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HGP創英角ｺﾞｼｯｸUB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he World Market for Digital Signage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HGP創英角ｺﾞｼｯｸUB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trends / market se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9400" y="703440"/>
            <a:ext cx="8845200" cy="164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ect to large growth: Airport, Transportation, Finance in Asia- Pacifi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rge growth segments: Education 18%, Retail 17%, Medical 13%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F726C57-7BEE-41C7-886A-1E5DC387E172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03320" y="868320"/>
            <a:ext cx="8964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17520" y="115920"/>
            <a:ext cx="860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gital signage tre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814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Trend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onnected to Networ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nected digital signage system has incre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has cooperated with the Internet and mobile systems (cross-media coordination of the digital signage, mobile and Interne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aS-based service is expanding (2013: about 25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814"/>
              </a:spcBef>
              <a:buSzPct val="100000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ization Tr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advanced to make the common standardization in the world though the standards body of the digital signage individually actions in each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814"/>
              </a:spcBef>
              <a:buSzPct val="100000"/>
              <a:buBlip>
                <a:blip r:embed="rId7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vernmental policy in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C in Japan is making efforts to the spread promotion of the digital sign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834560" y="5564160"/>
            <a:ext cx="7186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aS: Software as a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: Ministry of Internal Affairs and Communications in Ja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1"/>
          <p:cNvGrpSpPr/>
          <p:nvPr/>
        </p:nvGrpSpPr>
        <p:grpSpPr>
          <a:xfrm>
            <a:off x="8064360" y="3645000"/>
            <a:ext cx="576000" cy="792000"/>
            <a:chOff x="8064360" y="3645000"/>
            <a:chExt cx="576000" cy="792000"/>
          </a:xfrm>
        </p:grpSpPr>
        <p:pic>
          <p:nvPicPr>
            <p:cNvPr id="190" name="Picture 22" descr="FOMA GALAXY Tab SC-01Cの製品詳細へ"/>
            <p:cNvPicPr/>
            <p:nvPr/>
          </p:nvPicPr>
          <p:blipFill>
            <a:blip r:embed="rId1"/>
            <a:stretch/>
          </p:blipFill>
          <p:spPr>
            <a:xfrm>
              <a:off x="8093160" y="3691440"/>
              <a:ext cx="51480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23"/>
            <p:cNvSpPr/>
            <p:nvPr/>
          </p:nvSpPr>
          <p:spPr>
            <a:xfrm>
              <a:off x="8064720" y="4343760"/>
              <a:ext cx="554040" cy="9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4"/>
            <p:cNvSpPr/>
            <p:nvPr/>
          </p:nvSpPr>
          <p:spPr>
            <a:xfrm>
              <a:off x="8079480" y="3645000"/>
              <a:ext cx="554040" cy="9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5"/>
            <p:cNvSpPr/>
            <p:nvPr/>
          </p:nvSpPr>
          <p:spPr>
            <a:xfrm rot="16200000">
              <a:off x="8281800" y="4001760"/>
              <a:ext cx="6357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6"/>
            <p:cNvSpPr/>
            <p:nvPr/>
          </p:nvSpPr>
          <p:spPr>
            <a:xfrm rot="16200000">
              <a:off x="7786800" y="4001760"/>
              <a:ext cx="6357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AutoShape 2"/>
          <p:cNvSpPr/>
          <p:nvPr/>
        </p:nvSpPr>
        <p:spPr>
          <a:xfrm>
            <a:off x="628560" y="871560"/>
            <a:ext cx="6005520" cy="531972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th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365120" y="874800"/>
            <a:ext cx="4538880" cy="40291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r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2043000" y="874800"/>
            <a:ext cx="3186360" cy="283212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2719440" y="874800"/>
            <a:ext cx="1830240" cy="163656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s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682640" y="148284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05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657440" y="2487600"/>
            <a:ext cx="20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08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682640" y="368604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0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544320" y="6381720"/>
            <a:ext cx="6190920" cy="972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016000" y="640728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Marke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5880240" y="3328920"/>
            <a:ext cx="3044520" cy="32688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11523"/>
              <a:gd name="adj5" fmla="val 386796"/>
              <a:gd name="adj6" fmla="val -208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store, Offic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6796080" y="5300640"/>
            <a:ext cx="2239920" cy="936720"/>
          </a:xfrm>
          <a:prstGeom prst="borderCallout2">
            <a:avLst>
              <a:gd name="adj1" fmla="val 18750"/>
              <a:gd name="adj2" fmla="val -8333"/>
              <a:gd name="adj3" fmla="val 11958"/>
              <a:gd name="adj4" fmla="val -15662"/>
              <a:gd name="adj5" fmla="val 69953"/>
              <a:gd name="adj6" fmla="val -2840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36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ansion to th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, hotel room, h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3" descr="MCj04413370000[1]"/>
          <p:cNvPicPr/>
          <p:nvPr/>
        </p:nvPicPr>
        <p:blipFill>
          <a:blip r:embed="rId2"/>
          <a:stretch/>
        </p:blipFill>
        <p:spPr>
          <a:xfrm>
            <a:off x="7201080" y="3780000"/>
            <a:ext cx="576000" cy="555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MCj03984530000[1]"/>
          <p:cNvPicPr/>
          <p:nvPr/>
        </p:nvPicPr>
        <p:blipFill>
          <a:blip r:embed="rId3"/>
          <a:stretch/>
        </p:blipFill>
        <p:spPr>
          <a:xfrm>
            <a:off x="5987880" y="3706920"/>
            <a:ext cx="879480" cy="7714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5"/>
          <p:cNvSpPr/>
          <p:nvPr/>
        </p:nvSpPr>
        <p:spPr>
          <a:xfrm>
            <a:off x="5148360" y="1774800"/>
            <a:ext cx="3776400" cy="1241640"/>
          </a:xfrm>
          <a:prstGeom prst="borderCallout2">
            <a:avLst>
              <a:gd name="adj1" fmla="val 18750"/>
              <a:gd name="adj2" fmla="val -8333"/>
              <a:gd name="adj3" fmla="val 10027"/>
              <a:gd name="adj4" fmla="val -8069"/>
              <a:gd name="adj5" fmla="val 90027"/>
              <a:gd name="adj6" fmla="val -1432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jor distributor, Service sector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.e. GMS, convenience store, hotel, amusement pa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4356000" y="692280"/>
            <a:ext cx="4568760" cy="1241640"/>
          </a:xfrm>
          <a:prstGeom prst="borderCallout2">
            <a:avLst>
              <a:gd name="adj1" fmla="val 18750"/>
              <a:gd name="adj2" fmla="val -8333"/>
              <a:gd name="adj3" fmla="val 9069"/>
              <a:gd name="adj4" fmla="val -5731"/>
              <a:gd name="adj5" fmla="val 74462"/>
              <a:gd name="adj6" fmla="val -9925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 institutions, Large enterpris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.e. Bank, Securities firm, Train station and Shopping m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6102360" y="4464000"/>
            <a:ext cx="7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IP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7056360" y="4437000"/>
            <a:ext cx="97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Digital Photo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8640720" y="3933720"/>
            <a:ext cx="6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・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17520" y="115920"/>
            <a:ext cx="860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7848720" y="44370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ab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8"/>
          <p:cNvSpPr/>
          <p:nvPr/>
        </p:nvSpPr>
        <p:spPr>
          <a:xfrm>
            <a:off x="108000" y="907920"/>
            <a:ext cx="469800" cy="5483520"/>
          </a:xfrm>
          <a:prstGeom prst="downArrow">
            <a:avLst>
              <a:gd name="adj1" fmla="val 61491"/>
              <a:gd name="adj2" fmla="val 175891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ing  cost, commoditization, 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0"/>
          <p:cNvSpPr/>
          <p:nvPr/>
        </p:nvSpPr>
        <p:spPr>
          <a:xfrm>
            <a:off x="679320" y="907920"/>
            <a:ext cx="182520" cy="1944720"/>
          </a:xfrm>
          <a:prstGeom prst="downArrow">
            <a:avLst>
              <a:gd name="adj1" fmla="val 50000"/>
              <a:gd name="adj2" fmla="val 2663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866160" y="1022400"/>
            <a:ext cx="6102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ystem-specific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649440" y="2873520"/>
            <a:ext cx="212400" cy="2860560"/>
          </a:xfrm>
          <a:prstGeom prst="downArrow">
            <a:avLst>
              <a:gd name="adj1" fmla="val 50000"/>
              <a:gd name="adj2" fmla="val 336695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3"/>
          <p:cNvSpPr/>
          <p:nvPr/>
        </p:nvSpPr>
        <p:spPr>
          <a:xfrm>
            <a:off x="866160" y="2903400"/>
            <a:ext cx="61020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Networked / cross-medi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get Segment / Triangle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6004800" y="6497640"/>
            <a:ext cx="266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MS: general merchandise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5" descr=""/>
          <p:cNvPicPr/>
          <p:nvPr/>
        </p:nvPicPr>
        <p:blipFill>
          <a:blip r:embed="rId4"/>
          <a:stretch/>
        </p:blipFill>
        <p:spPr>
          <a:xfrm>
            <a:off x="2643120" y="4653000"/>
            <a:ext cx="20732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EA226EB-749C-49B4-95B2-64A4D33E5F47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0920" y="2258280"/>
            <a:ext cx="7948440" cy="818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e c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23:37:34Z</dcterms:created>
  <dc:creator>I</dc:creator>
  <dc:description/>
  <dc:language>en-US</dc:language>
  <cp:lastModifiedBy>craig</cp:lastModifiedBy>
  <dcterms:modified xsi:type="dcterms:W3CDTF">2011-12-09T02:16:49Z</dcterms:modified>
  <cp:revision>57</cp:revision>
  <dc:subject/>
  <dc:title>Job Description of Fellow from NTT</dc:title>
</cp:coreProperties>
</file>